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30.png" ContentType="image/png"/>
  <Override PartName="/ppt/media/image8.jpeg" ContentType="image/jpeg"/>
  <Override PartName="/ppt/media/image38.png" ContentType="image/png"/>
  <Override PartName="/ppt/media/image5.png" ContentType="image/png"/>
  <Override PartName="/ppt/media/image35.png" ContentType="image/png"/>
  <Override PartName="/ppt/media/image31.png" ContentType="image/png"/>
  <Override PartName="/ppt/media/image6.png" ContentType="image/png"/>
  <Override PartName="/ppt/media/image36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7.jpeg" ContentType="image/jpeg"/>
  <Override PartName="/ppt/media/image13.png" ContentType="image/png"/>
  <Override PartName="/ppt/media/image37.png" ContentType="image/png"/>
  <Override PartName="/ppt/media/image39.png" ContentType="image/png"/>
  <Override PartName="/ppt/media/image12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9.jpeg" ContentType="image/jpeg"/>
  <Override PartName="/ppt/media/image11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  <p:sldId id="269" r:id="rId39"/>
    <p:sldId id="270" r:id="rId40"/>
    <p:sldId id="271" r:id="rId41"/>
    <p:sldId id="272" r:id="rId42"/>
    <p:sldId id="273" r:id="rId43"/>
    <p:sldId id="274" r:id="rId44"/>
    <p:sldId id="275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slide" Target="slides/slide14.xml"/><Relationship Id="rId40" Type="http://schemas.openxmlformats.org/officeDocument/2006/relationships/slide" Target="slides/slide15.xml"/><Relationship Id="rId41" Type="http://schemas.openxmlformats.org/officeDocument/2006/relationships/slide" Target="slides/slide16.xml"/><Relationship Id="rId42" Type="http://schemas.openxmlformats.org/officeDocument/2006/relationships/slide" Target="slides/slide17.xml"/><Relationship Id="rId43" Type="http://schemas.openxmlformats.org/officeDocument/2006/relationships/slide" Target="slides/slide18.xml"/><Relationship Id="rId44" Type="http://schemas.openxmlformats.org/officeDocument/2006/relationships/slide" Target="slides/slide19.xml"/><Relationship Id="rId45" Type="http://schemas.openxmlformats.org/officeDocument/2006/relationships/slide" Target="slides/slide20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94C0-53C2-44AA-B85B-177C8602E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81A4-2345-4AF8-9946-326C8B982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196ABB-DD5D-4556-8F11-DA13EB811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7EBD5D-CE01-4162-9916-427717762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0816B8-39F9-4C0E-83DE-04F08470F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1251AD-8E13-4018-BD5F-529A5B92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E8E5B2-1665-478D-80CB-7F6A1FDC9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6EE721-6F9B-4C03-8F14-A93FFCA37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2FED5C-4FEB-4BA7-92A5-8E83A37DD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32BA32-7CBC-482D-AD6E-546B8CED1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14DAEF-89AC-49D1-A74E-2ED3539DA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2DFEED-8136-48B2-9905-76B8F2B24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9619-C0D3-4D31-B91B-0E8901BAC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222063-2C1D-434D-AB30-AC9E76D93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953DB8-F1E4-44CB-A6B6-29CC292B8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4B8793-07E9-43C2-9361-55AC3792A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824766-7C40-4C9F-8233-4F40CDEDB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666CC6-978C-425B-BFF5-EA7683E00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334643-0468-4471-BDB6-D4DD0CD2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5024A0-A854-426D-84C9-5CC4160EF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A52875-8930-4FD6-9FB1-8FFBD442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EC7A23-A48C-4C58-B521-8409415F5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76F056-9116-48C4-A51E-981A80B50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AB09-A606-4CFD-A2C2-1DD307102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920437-2DBC-4BA6-971C-E0BA05DC6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63BCE6-6355-4505-9C31-5D6AEDB29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C01030-786B-48A5-9BF7-9D9E00C23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A563E6-14DC-498C-A958-8BEEAB0CD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B6BBD9-28E7-484B-B2A3-96AE68A13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7D34F3-7C48-4FF4-99D4-B8D918E9B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13B50E-8CDD-4936-8B23-5D8F40333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96FFC0-10F9-452E-8767-7C34A7E2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C2840A-5439-4B3C-9364-0976A992C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8A46EF-B077-4805-BAB4-08CD2D79C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B9062-3EB3-4E49-810B-DB803DCA3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67A376-B88E-420B-A0FB-EC83088CA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A4BEFE-2BBC-4608-A9F6-F89DD17EF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983457-4FAB-4650-9423-1167BDA5E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5DFBB6-92AB-410D-91F2-2D88D1D04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C08731-B9AC-4B0A-BE07-28BCF77AE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87E386-1CB2-4E75-9DCF-6C133FFD0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DFC8FB-4336-4EF8-8012-E4BC9FD5D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D529B7-035F-4429-A59E-1A13A1CB0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19BBEB-CE4A-4ECA-BA70-EFC39D91E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8C5688-EA36-47F2-9CA8-F589C25A6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C5E0D-5624-4F3D-9720-0529633CF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28C59C-2873-47D7-B060-6E979C31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047AE4-EA83-4376-8A86-269AE8369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E9E51C-BB8B-4156-B285-F466FAFE3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C9F6F1-CF2F-4B92-B9EC-2C236AD8C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39C673-FE42-4FEB-A08A-70B074C98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1EA802-F8DA-44F7-9CFD-AA07E6D6A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95BF85-77EA-4426-B983-0199C5B1B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F4E345-7204-4E0D-B3A3-D49DE08D6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39D382-B520-4908-A666-2DE239901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DB0718-4B30-40B2-9C4B-79EBFA84D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1DF83-212D-41FF-9C9D-57DADF69E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63F8BF-5231-48C1-8DDD-F004CEE76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BCBDB5-D323-461D-A67C-795A4CC6F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C62B9D-2AE8-4213-8961-7990B7B3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EB3E76-13A7-4008-8BA5-F2CAF0F08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8DF442-4DC1-4C17-903C-FD9E228DA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8C94E6-4DE6-491C-A1EF-65C847215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3CD813-6799-40C8-A152-844F137F3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2D842E-2471-4068-AD88-99DC3CDB9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968BAB-41FD-473A-ACA7-0613179B6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4F429E-416E-4C7D-9E43-14899A6E0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5CDFA-014F-46DC-9B98-8334C9A45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0DD844-6831-49A9-8798-3CFB7ACB7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C693A2-E723-4A45-9892-1F1372100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FFD77A-4CFF-4CF3-B1E3-F3D0A79E6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6999FA-351A-48FC-AF1B-CC430A213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EF7C5E-4706-49EC-A44C-87E62088D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C26B13-A56B-4445-AB85-90944AA6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9B1CE0-32C9-48B2-BAB8-69384C9F1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E0C268-CAE0-4AE0-BB32-75E53A6D3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563847-6482-4AD4-AA36-9970A749E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0CEBA3-E02D-4616-B4E8-D8D4A16CF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9B6FD-E733-465B-A2C6-E6C009BE2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DB6C65-FF46-49F4-98EA-921940A24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626AA6-45BF-46F9-AA58-7D43A36E2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FBC7B2-3277-4F0A-B5D8-52E1542BC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A3F4EC-21E5-4759-818C-766F8D23C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B7B0B6-AD6B-49D7-B99C-C11968BB7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9A8E86-AB8F-4E40-B3D9-6821AEC57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999389-2ACD-4699-8FC6-CB3112279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EE2B98-EBD3-43C9-B55F-16E9794B4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5A7B9C-29D6-4037-BF42-44158E191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4DD8C3-3944-4F2F-94AB-553B3B7FD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61395-57CF-4DE0-B5AB-5638A9FB7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323777-A17F-4EFF-827B-CDEF8B997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9DB884-B436-46AA-86D0-CE70C9A61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4DAF81-676B-4A54-9730-9C0A542D7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0EBBAD-9C97-4BC7-98C8-5B40D1D9D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43425A-188F-44F6-9713-004063403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1B00D3-3161-4F92-9968-7A39643F3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76E09D-0DD8-4271-8DB5-E184CB2CC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BCDF73-626E-439A-B5D4-0CFE4C35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1E4D95-0168-4B11-B6BF-15BE78CE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00FC94-3487-4885-9067-9B2668FED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26932-DF5A-4A8C-A72A-AF1DC6C92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7E0B1A-7376-48D2-A389-F1FED4726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94DDE1-FEE6-4FBE-BD20-D1B233EDD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9B84B8-AC40-41D2-9DB8-776B59778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946B5D-E850-4E2E-8751-C6C6A1BC8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372D88-16DD-4A77-94F6-9C9D62D46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88790E-5B4D-4968-AF60-D39490625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A7335F-442A-4A16-99D2-AB2AEE361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1E914B-4D7D-4689-BFA6-7151EBE31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B6A44C-BAC6-4669-B086-8C9C4CBCA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547C58-0C44-4EAB-A0AB-5116E7E1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EAA1-A11E-40BA-AC62-B087CB1E4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CF0CE-4434-4BA8-A622-1D24C9AFF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336E50-BFC4-448A-B492-3223534AE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4F1AA3-5A8A-4F4E-9B05-6753E3A38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2D519B-460F-49FE-9A35-0E6D1D27F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30E53D-BF6E-4C86-869A-591262AE2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581DCA-5E56-4094-8A19-1365EF0AF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7A356B-DA1B-4763-AFDE-10B6FCEF6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4DDA5C-EF5F-4E7E-BADD-D3BDE826A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2A0BFA-7900-4BE0-990D-D8180C57F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AE59E0-CC50-4FCB-8CEC-D1F6FC7B8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97C3A1-0415-4DE1-99BD-C530D3993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D4FA7-6000-4CF7-AFD6-590A8BCE0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C666A4-5E68-404B-BD4F-B2DB79C3E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967791-7CCC-4ADB-B780-351C7FDA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2A85CF-E47F-49AD-8B27-68619E88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3077D5-79DB-49BA-80B1-AA1D65525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D94003-D88F-4D7B-84C2-39C656538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998655-E006-4B50-8C6B-00E6B3119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FAC8B8-7F52-4781-8F94-AF220E258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B8CAF7-77FA-43DB-BE1E-0A0573493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6E47E2-E406-41B2-80C7-92700F542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C0944C-C9CC-4941-9659-53114AB06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68EFC-57E5-4BE6-A09C-FAFD0D53F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D0FD15-6728-4356-8AAD-FE16FEE5E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B5F36A-4D7A-45B3-B30A-F8010D9DB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CD56D3-1F31-4671-B13E-E52402137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1BEFCC-3D8C-4349-9BBF-233ED552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1ED52E-02CD-4B81-B0DB-BFF2A059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3C73D1-DED1-4280-AFCB-E5564F56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E9D98D-5298-4400-B21C-69AE9DCAF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46785A-BFC3-4098-94FC-195723849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583FB5-64AB-4320-B36C-795740AFD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C13207-5568-4C0A-B04D-43F6FD5CC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5CA79-64BC-43B6-9C12-8874A0987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E3363E-9519-4711-B0E8-E976D09D3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F27D13-2447-4E64-ACAB-0C9CEBD9D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2F3454-0831-4DED-AD82-8D77AC9AE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A34242-5A14-4A0B-A70F-FF9953CD9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0F3E4D-FE80-4C42-81C3-B841B3DB4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D951BB-B3D7-4715-8B6E-3D8E304E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966E85-9EEF-4248-8D33-36682300A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1690BD-812A-4EFC-9889-086D06FA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CD7F2B-8469-4014-A3DD-04E06B074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EA4940-E5AC-46C9-8556-47C1957FF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86D97-93C6-4F21-81AE-1ECAF7526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C366DC-E057-43A6-856A-9775CBDFA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1EB5A5-8891-48F3-8BC1-25402A54B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99F179-40ED-4D7A-8C89-8C7FFFCE2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260D93-5FD6-4FB0-8DD1-C9D5ED195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9B6C04-55F0-47CB-B421-51E1441C1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968F65-219E-4BA6-AD02-EC92E0DFF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192C31-D73C-4742-833B-C8059A6F7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011C81-B736-4DDD-9095-FF2E8464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C29B78-96C4-421C-B129-93C8BF94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12F122-56F2-4935-8A24-4271B2CF4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CB252-684C-405F-9E83-53131D41C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1C15A7-C9E8-44F6-B746-39424A5B2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41BAFA-02CC-4206-B2B8-97B3AD9B0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B135155-90C6-4207-A360-D52B3E003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3F07366-8213-4D66-AD3B-1EDC131CC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DE262F9-39DB-4802-B8CA-AC408C35C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FE0193B-D24A-443F-8311-3C5E5CC87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C3D9162-F48E-4E9A-9D83-73D1FC801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3FFC389-D604-446D-9C38-DCC1EA216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74FADAA-980D-4AD2-8954-E1DC6930C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A4A0463-3D32-4F0C-8DED-F1DEA30C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62F4C-DD68-42FF-B98C-295F91739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4C57EE9-50E8-4220-BA72-1105D2F38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C329FF1-B3E3-4FD9-B2DE-763449E3F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568835E-007B-4D78-8B49-E15AB68A9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4EBE889-E611-4776-BDED-86D44E984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FAEAE02-6896-4411-82F1-DECE349D5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AD76F94-174C-4464-9448-DC26B9180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4D0A75E-45D8-4F1F-9E71-51F1E42B6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9BB5BCA-FD76-4065-B2F4-C6CEF6A72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6DB2247-6A9C-4783-8B12-1EEF164B2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9C766EE-6AB7-4254-B73F-74B4B7500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A4269-C0C0-4CB9-9A63-6DE0FA1D0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5F01187-A449-418A-9874-1BA02FB3C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75336FD-848A-42A7-B15B-AE05D3058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4C147A8-14CB-41DA-A26B-2E585CED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67400C1-F98C-4A99-9DB9-C4FFD6DF0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6ACA9FC-7E90-4966-BE36-1F7FB9D68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B41101B-B013-4940-878D-871ADBE85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13CD52C-5650-4955-9E73-E517FB0BE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7758FE2-D054-4B80-9E1C-CB4B99755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6328801-2947-4CEC-A5B5-0AC548BC7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A83C60A-E8AA-4C88-A67B-01ED0AFD5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0F2C6-A7B3-4A7E-BE0A-B6BD36654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B1D0296-E80D-4C53-9602-0CDF1B924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477015A-50CB-40A5-85A8-090ACEEEF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52C4B23-4844-4A3B-ABD3-F61F76392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B23C2C9-0BBE-4BCB-92E3-0AE25561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FC6B131-7456-4C6D-9F7C-F361F6CA3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8415801-9808-42C6-B97C-868BD942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CD1F82E-70FA-42A6-8D55-5A87FA856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49098CC-6342-44B5-A9C9-D2A890B9D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DE17116-9726-4010-9ACE-959DCD150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B7B81-ABD2-4915-A988-AAC830FEC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D122-CCDC-4598-9D2D-FBE71EE3B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E53B5-ED5B-403A-AC21-F78933DAE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6D6C3-2520-4D55-B98C-4210F5705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B32E1-C22D-4CC8-B9B3-AD236DC3F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13236-D285-46DF-97BA-6D646B7C7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376AC-154B-43B8-9091-687896EE5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5807A-C22F-4C9C-A075-A62373755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C7016-5420-42EE-BBB6-FAAA66A3D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AC8CD-F12F-4E78-B884-C93BFB8EA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FBBC0-69AD-4B09-B076-ED8B5B21E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7BD24-AF22-4D56-9BF4-65F7A5793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43EF-F580-4291-86E2-7C8201D82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7B4EA-1FCE-405F-8594-AF4B77140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14AB4-DBA3-4559-87F1-40D2DE1F3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3DB7B-4F35-4D70-8B04-6F4D7CF22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AA8C1-3210-4BCF-96C0-3530B2949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F5A98-1825-4E6D-8C7E-D7BDB8851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59A10-6C79-4AC2-9E35-ACE31D12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76CD0-5CE9-4C6F-B077-40A70909D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F9353-ADFB-47EA-BEF0-1A68AD414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C08DF-93FB-487F-B3DB-027B87708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844B47-2537-4992-8844-236292CC6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3D9F-7279-4916-BA54-089B4B898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910FFD-BB8D-4752-9F4F-F34CC92A8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11C0A-020E-47FD-ABD3-655D95586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8E58E9-BC24-493E-8C1D-F2765B13F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57EC0-0ACA-477E-9D38-C1E789E25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D7E8A8-82C9-4EFD-A69B-A3CB2D402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FD5E8F-A46B-4339-8599-5F03D46C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133733-62B2-4AE4-B5DD-8EC20A2B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C730D4-FD23-4F15-9CA0-D19D7B61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A85D5-52BD-441B-BBB0-89CC024F9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554B01-2F1D-41C1-B685-97C3EE090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E126-061A-4989-B243-421AFEE48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B16D54-7539-4061-AA38-46EC0AF33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C26532-02B9-445B-B506-8015D253E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161CB4-FB41-4FF6-B1E5-2F0120B10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3DE692-3387-447F-8F9C-227FB1183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CC8E83-BA57-4B99-8AA9-99C3D761E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74D2D2-D6A2-4F41-BF68-24456BEF6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A21B14-70A1-46FF-9AA4-0B53ABDD3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339540-0D7A-406D-B59D-0693EAB0A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197259-8E75-4A25-9504-DBA8267D6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C34581-F847-4508-9774-D3AE20CE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E514-9490-4190-8A1B-2F95C8B6F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5326D-4DC2-43E0-9B33-3C13CE24C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3275DC-6325-4C46-862C-EB1FB1B76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751639-29B4-4C02-9CCC-23E05A75D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A5A62C-ED47-4F53-89D1-64D598B5F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A87BC9-87FC-43BD-811A-AD6A54211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EB67B4-AF01-45CA-A7B8-808518E51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1B8447-7438-465C-B0EF-A521159AC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36409E-5A85-4FBA-B46A-DCE289F85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2BCD52-24B0-4547-897D-D7630EB32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907238-E2BA-4D07-93F5-205174B3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12AA-F046-4D68-AA36-684E2E92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35F6A7-D991-49DA-ADA4-4BFB16A12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DE9A01-D1BA-4027-AB48-1A44596E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1E03EE-891D-41C1-A327-5B58A6896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1BEACA-57EA-47AB-869A-311A338E5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39F1A6-EC33-4496-9E4D-04BCAB096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8EA948-FB57-4F0E-AC53-E2BD3617C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23716E-DE93-4788-A7A7-5C678C442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E5BE42-2723-4F3E-8E04-F846BCD0E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4C304F-2B67-4031-91B9-B8F51CE3A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47C341-F73A-42E0-A951-662C8F765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9129-9FB9-411F-8AF5-BE4C062F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95F0B5-D9F2-4EF1-96EA-4F388F19E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48A95A-DE61-4207-BAB6-8CA99CCA9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BE5717-23C1-4D8A-AA73-280D3E69C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1F6D7E-D961-4351-8D1E-894555A6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6E0660-38C3-427D-A474-677AB10B1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8EBF05-4FE1-4E73-8227-31C26779F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D4514A-C659-4CD8-A47C-68727020B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317B4A-D590-4D49-855B-F7BC41A18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35ED86-523A-4E90-89E2-B4FB9514C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61DD9E-0636-449C-A89B-DFA6FCE08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BCDDE-D40F-4D85-BFC1-750EF0EF207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0404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E1302-26A1-4CDD-ADE1-81A557DE7FAF}" type="datetime">
              <a:rPr b="0" lang="ru-RU" sz="1200" spc="-1" strike="noStrike">
                <a:solidFill>
                  <a:srgbClr val="404040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0404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5F5B2-0345-4AFF-8728-8FF001AB7559}" type="slidenum">
              <a:rPr b="0" lang="ru-RU" sz="1200" spc="-1" strike="noStrike">
                <a:solidFill>
                  <a:srgbClr val="40404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0404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B8B95-40D9-4C1F-8C2C-EA64311184D0}" type="datetime">
              <a:rPr b="0" lang="ru-RU" sz="1200" spc="-1" strike="noStrike">
                <a:solidFill>
                  <a:srgbClr val="404040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0404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166AF-7322-4483-B6D0-5D433295A343}" type="slidenum">
              <a:rPr b="0" lang="ru-RU" sz="1200" spc="-1" strike="noStrike">
                <a:solidFill>
                  <a:srgbClr val="40404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0404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7BA64-4FBF-4D65-BC0F-FD5D79A94BE5}" type="datetime">
              <a:rPr b="0" lang="ru-RU" sz="1200" spc="-1" strike="noStrike">
                <a:solidFill>
                  <a:srgbClr val="404040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0404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E3B6F-2B7B-4EF1-BBA9-2CA1E90DD326}" type="slidenum">
              <a:rPr b="0" lang="ru-RU" sz="1200" spc="-1" strike="noStrike">
                <a:solidFill>
                  <a:srgbClr val="40404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0404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26943-3B1C-4A38-AE1A-8620042327CC}" type="datetime">
              <a:rPr b="0" lang="ru-RU" sz="1200" spc="-1" strike="noStrike">
                <a:solidFill>
                  <a:srgbClr val="404040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0404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136D4-79B2-4695-B8A8-D6AD870D4287}" type="slidenum">
              <a:rPr b="0" lang="ru-RU" sz="1200" spc="-1" strike="noStrike">
                <a:solidFill>
                  <a:srgbClr val="40404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4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48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dt" idx="4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333FC-160C-4A7C-8478-E492500F4FF8}" type="datetime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 type="ftr" idx="4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 type="sldNum" idx="4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CFF90-E2C0-4600-ACDA-FDA53E382D0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95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7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dt" idx="4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62EA8-6FD5-4AD5-B5C2-F79F36DC318E}" type="datetime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ftr" idx="4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sldNum" idx="4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21FE0-F7A2-443F-914B-7FA9951E581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64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dt" idx="4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E72FA-63B6-4EEC-87F0-3CBFD9A10712}" type="datetime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4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sldNum" idx="4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7BBC9-F4DF-4B46-B315-35FC463E86C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9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690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1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2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 type="dt" idx="4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4F694-6D61-41C6-BAD5-10408B943342}" type="datetime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 type="ftr" idx="5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 type="sldNum" idx="5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4FF20-00D5-4C3A-AC93-4FDB31CD3CD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 type="dt" idx="5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090D1-7ECB-4022-A1C1-12925188B229}" type="datetime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 type="ftr" idx="5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 type="sldNum" idx="5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9C930-6847-40C6-A0F2-F4EEC800C10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8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779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0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1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 type="dt" idx="5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84673-1CCC-4D94-A6D9-E2F0E1D1200B}" type="datetime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 type="ftr" idx="5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 type="sldNum" idx="5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57BB2-5A3A-4CCC-9850-AF4F1B3826E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4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006CD-353C-4843-9478-0584A6EF571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dt" idx="5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88F74-77B1-4D5A-8B40-3FD49428DF11}" type="datetime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ftr" idx="5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sldNum" idx="6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AA5A9-B066-4235-92CE-E019488F609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 type="dt" idx="6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15440-B34B-404F-A242-F4DD5A23256B}" type="datetime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 type="ftr" idx="6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 type="sldNum" idx="6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255B0-2DD6-49AA-85CB-4918EB07B97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8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909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0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1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 type="dt" idx="6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EF393-643F-4A29-B1A9-10578493737B}" type="datetime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 type="ftr" idx="6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 type="sldNum" idx="6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979CA-E3EA-4D81-8CF8-D4F6916084C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6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957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 type="dt" idx="6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822EC-9A26-4B7C-A3BB-CA5E505A77DC}" type="datetime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 type="ftr" idx="6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 type="sldNum" idx="6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8F256-1017-425F-9298-8CB215A4CBA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4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005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 type="dt" idx="7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97CA9-31CE-453F-AE03-DA4B8402D535}" type="datetime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 type="ftr" idx="7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 type="sldNum" idx="7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0A908-0277-44C6-B4E8-BB35EE14CFB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0404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62FF7-BA1A-41A0-9266-D8AF65D10030}" type="datetime">
              <a:rPr b="0" lang="ru-RU" sz="1200" spc="-1" strike="noStrike">
                <a:solidFill>
                  <a:srgbClr val="404040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0404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BC550-21DF-4323-8964-2E37C7A5396C}" type="slidenum">
              <a:rPr b="0" lang="ru-RU" sz="1200" spc="-1" strike="noStrike">
                <a:solidFill>
                  <a:srgbClr val="40404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0404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8C0DB-1657-4864-9CEF-926FAB336D11}" type="datetime">
              <a:rPr b="0" lang="ru-RU" sz="1200" spc="-1" strike="noStrike">
                <a:solidFill>
                  <a:srgbClr val="404040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0404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5D325-5D5B-4441-8B2B-F6D6DD1E66BC}" type="slidenum">
              <a:rPr b="0" lang="ru-RU" sz="1200" spc="-1" strike="noStrike">
                <a:solidFill>
                  <a:srgbClr val="40404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0404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A5891-35BB-4E69-A7F3-86787A69CBFE}" type="datetime">
              <a:rPr b="0" lang="ru-RU" sz="1200" spc="-1" strike="noStrike">
                <a:solidFill>
                  <a:srgbClr val="404040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0404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6995A-9381-43A5-9ADB-5D2912200F65}" type="slidenum">
              <a:rPr b="0" lang="ru-RU" sz="1200" spc="-1" strike="noStrike">
                <a:solidFill>
                  <a:srgbClr val="40404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0404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4C66B-E0F9-4397-A72C-AAA92CDBCC22}" type="datetime">
              <a:rPr b="0" lang="ru-RU" sz="1200" spc="-1" strike="noStrike">
                <a:solidFill>
                  <a:srgbClr val="404040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0404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DC1FC-FBEF-47F1-ACAC-D68498055AA6}" type="slidenum">
              <a:rPr b="0" lang="ru-RU" sz="1200" spc="-1" strike="noStrike">
                <a:solidFill>
                  <a:srgbClr val="40404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0404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7CF0B-D651-4BF5-B4DE-F3449E298BA6}" type="datetime">
              <a:rPr b="0" lang="ru-RU" sz="1200" spc="-1" strike="noStrike">
                <a:solidFill>
                  <a:srgbClr val="404040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0404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4D6AB-A14B-4288-A41A-D8E603252E51}" type="slidenum">
              <a:rPr b="0" lang="ru-RU" sz="1200" spc="-1" strike="noStrike">
                <a:solidFill>
                  <a:srgbClr val="40404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0404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BDF59-F12F-4F23-93AD-FE756D02D170}" type="datetime">
              <a:rPr b="0" lang="ru-RU" sz="1200" spc="-1" strike="noStrike">
                <a:solidFill>
                  <a:srgbClr val="404040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0404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EE3C0-5215-4CAC-B85F-CBD54E4AE761}" type="slidenum">
              <a:rPr b="0" lang="ru-RU" sz="1200" spc="-1" strike="noStrike">
                <a:solidFill>
                  <a:srgbClr val="40404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0404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683BB-4AB2-4C80-8737-5CEC6CA873CA}" type="datetime">
              <a:rPr b="0" lang="ru-RU" sz="1200" spc="-1" strike="noStrike">
                <a:solidFill>
                  <a:srgbClr val="404040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0404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DA8EF-4938-409E-8A17-3A0C5638E54B}" type="slidenum">
              <a:rPr b="0" lang="ru-RU" sz="1200" spc="-1" strike="noStrike">
                <a:solidFill>
                  <a:srgbClr val="40404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2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2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2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it-n.ru/" TargetMode="External"/><Relationship Id="rId2" Type="http://schemas.openxmlformats.org/officeDocument/2006/relationships/hyperlink" Target="http://viki.rdf.ru/" TargetMode="External"/><Relationship Id="rId3" Type="http://schemas.openxmlformats.org/officeDocument/2006/relationships/hyperlink" Target="http://rusedu.ru/" TargetMode="External"/><Relationship Id="rId4" Type="http://schemas.openxmlformats.org/officeDocument/2006/relationships/hyperlink" Target="http://www.kalyamalya.ru/" TargetMode="External"/><Relationship Id="rId5" Type="http://schemas.openxmlformats.org/officeDocument/2006/relationships/hyperlink" Target="http://www.nachalka.com/" TargetMode="External"/><Relationship Id="rId6" Type="http://schemas.openxmlformats.org/officeDocument/2006/relationships/hyperlink" Target="http://stranamasterov.ru/search/node/bpjybnm-" TargetMode="External"/><Relationship Id="rId7" Type="http://schemas.openxmlformats.org/officeDocument/2006/relationships/hyperlink" Target="http://www.lukoshko.net/" TargetMode="External"/><Relationship Id="rId8" Type="http://schemas.openxmlformats.org/officeDocument/2006/relationships/hyperlink" Target="http://www.uroki.net/index.htm" TargetMode="External"/><Relationship Id="rId9" Type="http://schemas.openxmlformats.org/officeDocument/2006/relationships/hyperlink" Target="http://www.iro.yar.ru:8101/resource/dis%20...%20education/" TargetMode="External"/><Relationship Id="rId10" Type="http://schemas.openxmlformats.org/officeDocument/2006/relationships/hyperlink" Target="http://uchitel.moy.su/" TargetMode="External"/><Relationship Id="rId11" Type="http://schemas.openxmlformats.org/officeDocument/2006/relationships/hyperlink" Target="http://konstantinova.21416s15.edusite.ru/p33aa1.html" TargetMode="External"/><Relationship Id="rId12" Type="http://schemas.openxmlformats.org/officeDocument/2006/relationships/hyperlink" Target="http://www.kinder.ru/" TargetMode="External"/><Relationship Id="rId13" Type="http://schemas.openxmlformats.org/officeDocument/2006/relationships/hyperlink" Target="http://laste.arvutikaitse.ee/rus/html/etusivu.htm" TargetMode="External"/><Relationship Id="rId14" Type="http://schemas.openxmlformats.org/officeDocument/2006/relationships/hyperlink" Target="http://www.planetashkol.ru/" TargetMode="External"/><Relationship Id="rId15" Type="http://schemas.openxmlformats.org/officeDocument/2006/relationships/hyperlink" Target="http://www.develop-kinder.com/" TargetMode="External"/><Relationship Id="rId16" Type="http://schemas.openxmlformats.org/officeDocument/2006/relationships/slideLayout" Target="../slideLayouts/slideLayout22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image" Target="../media/image26.png"/><Relationship Id="rId8" Type="http://schemas.openxmlformats.org/officeDocument/2006/relationships/image" Target="../media/image26.png"/><Relationship Id="rId9" Type="http://schemas.openxmlformats.org/officeDocument/2006/relationships/image" Target="../media/image26.png"/><Relationship Id="rId10" Type="http://schemas.openxmlformats.org/officeDocument/2006/relationships/image" Target="../media/image26.png"/><Relationship Id="rId11" Type="http://schemas.openxmlformats.org/officeDocument/2006/relationships/image" Target="../media/image26.png"/><Relationship Id="rId12" Type="http://schemas.openxmlformats.org/officeDocument/2006/relationships/image" Target="../media/image26.png"/><Relationship Id="rId13" Type="http://schemas.openxmlformats.org/officeDocument/2006/relationships/image" Target="../media/image26.png"/><Relationship Id="rId14" Type="http://schemas.openxmlformats.org/officeDocument/2006/relationships/image" Target="../media/image26.png"/><Relationship Id="rId15" Type="http://schemas.openxmlformats.org/officeDocument/2006/relationships/image" Target="../media/image26.png"/><Relationship Id="rId16" Type="http://schemas.openxmlformats.org/officeDocument/2006/relationships/image" Target="../media/image26.png"/><Relationship Id="rId17" Type="http://schemas.openxmlformats.org/officeDocument/2006/relationships/image" Target="../media/image26.png"/><Relationship Id="rId18" Type="http://schemas.openxmlformats.org/officeDocument/2006/relationships/image" Target="../media/image27.png"/><Relationship Id="rId19" Type="http://schemas.openxmlformats.org/officeDocument/2006/relationships/image" Target="../media/image28.png"/><Relationship Id="rId20" Type="http://schemas.openxmlformats.org/officeDocument/2006/relationships/image" Target="../media/image29.png"/><Relationship Id="rId21" Type="http://schemas.openxmlformats.org/officeDocument/2006/relationships/image" Target="../media/image30.png"/><Relationship Id="rId22" Type="http://schemas.openxmlformats.org/officeDocument/2006/relationships/image" Target="../media/image31.png"/><Relationship Id="rId23" Type="http://schemas.openxmlformats.org/officeDocument/2006/relationships/image" Target="../media/image32.png"/><Relationship Id="rId24" Type="http://schemas.openxmlformats.org/officeDocument/2006/relationships/image" Target="../media/image31.png"/><Relationship Id="rId25" Type="http://schemas.openxmlformats.org/officeDocument/2006/relationships/image" Target="../media/image30.png"/><Relationship Id="rId26" Type="http://schemas.openxmlformats.org/officeDocument/2006/relationships/image" Target="../media/image33.png"/><Relationship Id="rId27" Type="http://schemas.openxmlformats.org/officeDocument/2006/relationships/image" Target="../media/image34.png"/><Relationship Id="rId28" Type="http://schemas.openxmlformats.org/officeDocument/2006/relationships/image" Target="../media/image35.png"/><Relationship Id="rId29" Type="http://schemas.openxmlformats.org/officeDocument/2006/relationships/image" Target="../media/image36.png"/><Relationship Id="rId30" Type="http://schemas.openxmlformats.org/officeDocument/2006/relationships/image" Target="../media/image37.png"/><Relationship Id="rId31" Type="http://schemas.openxmlformats.org/officeDocument/2006/relationships/image" Target="../media/image38.png"/><Relationship Id="rId32" Type="http://schemas.openxmlformats.org/officeDocument/2006/relationships/image" Target="../media/image38.png"/><Relationship Id="rId33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2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0" name="Прямоугольник 1" descr=""/>
          <p:cNvPicPr/>
          <p:nvPr/>
        </p:nvPicPr>
        <p:blipFill>
          <a:blip r:embed="rId1"/>
          <a:stretch/>
        </p:blipFill>
        <p:spPr>
          <a:xfrm>
            <a:off x="1085760" y="1579680"/>
            <a:ext cx="7137360" cy="362088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6" descr="http://www.school133-perm.ru/templates/jblank/images/logo.png"/>
          <p:cNvPicPr/>
          <p:nvPr/>
        </p:nvPicPr>
        <p:blipFill>
          <a:blip r:embed="rId2"/>
          <a:stretch/>
        </p:blipFill>
        <p:spPr>
          <a:xfrm>
            <a:off x="1143000" y="142920"/>
            <a:ext cx="1428840" cy="1390680"/>
          </a:xfrm>
          <a:prstGeom prst="rect">
            <a:avLst/>
          </a:prstGeom>
          <a:ln w="0">
            <a:noFill/>
          </a:ln>
        </p:spPr>
      </p:pic>
      <p:sp>
        <p:nvSpPr>
          <p:cNvPr id="1052" name="Прямоугольник 6"/>
          <p:cNvSpPr/>
          <p:nvPr/>
        </p:nvSpPr>
        <p:spPr>
          <a:xfrm>
            <a:off x="3143160" y="428760"/>
            <a:ext cx="514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ОУ «СОШ №133»  г. Перм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Rectangle 7"/>
          <p:cNvSpPr/>
          <p:nvPr/>
        </p:nvSpPr>
        <p:spPr>
          <a:xfrm flipV="1" rot="10800000">
            <a:off x="6571800" y="5189040"/>
            <a:ext cx="2357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Лядова И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. в. кв. катег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любина О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. в. кв. катег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Picture 9" descr="Картинки по запросу инфоурок видеоуроки"/>
          <p:cNvPicPr/>
          <p:nvPr/>
        </p:nvPicPr>
        <p:blipFill>
          <a:blip r:embed="rId1"/>
          <a:stretch/>
        </p:blipFill>
        <p:spPr>
          <a:xfrm>
            <a:off x="714240" y="3429000"/>
            <a:ext cx="5585040" cy="3143160"/>
          </a:xfrm>
          <a:prstGeom prst="rect">
            <a:avLst/>
          </a:prstGeom>
          <a:ln w="0">
            <a:noFill/>
          </a:ln>
        </p:spPr>
      </p:pic>
      <p:sp>
        <p:nvSpPr>
          <p:cNvPr id="1090" name="Text Box 4"/>
          <p:cNvSpPr/>
          <p:nvPr/>
        </p:nvSpPr>
        <p:spPr>
          <a:xfrm>
            <a:off x="1624320" y="136440"/>
            <a:ext cx="6451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ИКТ в учебном процесс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Text Box 7">
            <a:hlinkClick r:id="rId2" action="ppaction://hlinksldjump"/>
          </p:cNvPr>
          <p:cNvSpPr/>
          <p:nvPr/>
        </p:nvSpPr>
        <p:spPr>
          <a:xfrm>
            <a:off x="2008440" y="905040"/>
            <a:ext cx="562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спользование готовых Ц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2" name="Picture 6" descr=""/>
          <p:cNvPicPr/>
          <p:nvPr/>
        </p:nvPicPr>
        <p:blipFill>
          <a:blip r:embed="rId3"/>
          <a:stretch/>
        </p:blipFill>
        <p:spPr>
          <a:xfrm>
            <a:off x="4643280" y="1488960"/>
            <a:ext cx="4321440" cy="3241800"/>
          </a:xfrm>
          <a:prstGeom prst="rect">
            <a:avLst/>
          </a:prstGeom>
          <a:ln w="19080">
            <a:solidFill>
              <a:srgbClr val="990000"/>
            </a:solidFill>
            <a:miter/>
          </a:ln>
        </p:spPr>
      </p:pic>
      <p:sp>
        <p:nvSpPr>
          <p:cNvPr id="1093" name="Text Box 8"/>
          <p:cNvSpPr/>
          <p:nvPr/>
        </p:nvSpPr>
        <p:spPr>
          <a:xfrm>
            <a:off x="4832280" y="5040360"/>
            <a:ext cx="4292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«Большая энциклопед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Кирилла и Мефод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4" name="Picture 5" descr=""/>
          <p:cNvPicPr/>
          <p:nvPr/>
        </p:nvPicPr>
        <p:blipFill>
          <a:blip r:embed="rId1"/>
          <a:stretch/>
        </p:blipFill>
        <p:spPr>
          <a:xfrm>
            <a:off x="173160" y="1878120"/>
            <a:ext cx="3365280" cy="252396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pic>
        <p:nvPicPr>
          <p:cNvPr id="1095" name="Picture 6" descr=""/>
          <p:cNvPicPr/>
          <p:nvPr/>
        </p:nvPicPr>
        <p:blipFill>
          <a:blip r:embed="rId2"/>
          <a:stretch/>
        </p:blipFill>
        <p:spPr>
          <a:xfrm>
            <a:off x="5148360" y="1903320"/>
            <a:ext cx="3551040" cy="266400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pic>
        <p:nvPicPr>
          <p:cNvPr id="1096" name="Picture 4" descr=""/>
          <p:cNvPicPr/>
          <p:nvPr/>
        </p:nvPicPr>
        <p:blipFill>
          <a:blip r:embed="rId3"/>
          <a:stretch/>
        </p:blipFill>
        <p:spPr>
          <a:xfrm>
            <a:off x="2627280" y="4292640"/>
            <a:ext cx="3137040" cy="235260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sp>
        <p:nvSpPr>
          <p:cNvPr id="1097" name="Text Box 7"/>
          <p:cNvSpPr/>
          <p:nvPr/>
        </p:nvSpPr>
        <p:spPr>
          <a:xfrm>
            <a:off x="422640" y="801720"/>
            <a:ext cx="804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Внеклассное чт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диски с литературными произведениям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Text Box 4"/>
          <p:cNvSpPr/>
          <p:nvPr/>
        </p:nvSpPr>
        <p:spPr>
          <a:xfrm>
            <a:off x="1624320" y="136440"/>
            <a:ext cx="6451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ИКТ в учебном процесс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Text Box 9"/>
          <p:cNvSpPr/>
          <p:nvPr/>
        </p:nvSpPr>
        <p:spPr>
          <a:xfrm>
            <a:off x="2301480" y="912960"/>
            <a:ext cx="57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отовые предметные презен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0" name="Picture 11" descr=""/>
          <p:cNvPicPr/>
          <p:nvPr/>
        </p:nvPicPr>
        <p:blipFill>
          <a:blip r:embed="rId1"/>
          <a:stretch/>
        </p:blipFill>
        <p:spPr>
          <a:xfrm>
            <a:off x="5114880" y="1500120"/>
            <a:ext cx="3233880" cy="2425680"/>
          </a:xfrm>
          <a:prstGeom prst="rect">
            <a:avLst/>
          </a:prstGeom>
          <a:ln w="12600">
            <a:solidFill>
              <a:srgbClr val="990000"/>
            </a:solidFill>
            <a:miter/>
          </a:ln>
        </p:spPr>
      </p:pic>
      <p:pic>
        <p:nvPicPr>
          <p:cNvPr id="1101" name="Picture 13" descr=""/>
          <p:cNvPicPr/>
          <p:nvPr/>
        </p:nvPicPr>
        <p:blipFill>
          <a:blip r:embed="rId2"/>
          <a:stretch/>
        </p:blipFill>
        <p:spPr>
          <a:xfrm>
            <a:off x="5110200" y="4102200"/>
            <a:ext cx="3238560" cy="2539800"/>
          </a:xfrm>
          <a:prstGeom prst="rect">
            <a:avLst/>
          </a:prstGeom>
          <a:ln w="12600">
            <a:solidFill>
              <a:srgbClr val="990000"/>
            </a:solidFill>
            <a:miter/>
          </a:ln>
        </p:spPr>
      </p:pic>
      <p:pic>
        <p:nvPicPr>
          <p:cNvPr id="1102" name="Picture 10" descr=""/>
          <p:cNvPicPr/>
          <p:nvPr/>
        </p:nvPicPr>
        <p:blipFill>
          <a:blip r:embed="rId3"/>
          <a:stretch/>
        </p:blipFill>
        <p:spPr>
          <a:xfrm>
            <a:off x="1039680" y="1500120"/>
            <a:ext cx="3461040" cy="2492280"/>
          </a:xfrm>
          <a:prstGeom prst="rect">
            <a:avLst/>
          </a:prstGeom>
          <a:ln w="19080">
            <a:solidFill>
              <a:srgbClr val="990000"/>
            </a:solidFill>
            <a:miter/>
          </a:ln>
        </p:spPr>
      </p:pic>
      <p:sp>
        <p:nvSpPr>
          <p:cNvPr id="1103" name="Text Box 4"/>
          <p:cNvSpPr/>
          <p:nvPr/>
        </p:nvSpPr>
        <p:spPr>
          <a:xfrm>
            <a:off x="1624320" y="136440"/>
            <a:ext cx="6451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ИКТ в учебном процесс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4" name="Picture 5" descr=""/>
          <p:cNvPicPr/>
          <p:nvPr/>
        </p:nvPicPr>
        <p:blipFill>
          <a:blip r:embed="rId4"/>
          <a:stretch/>
        </p:blipFill>
        <p:spPr>
          <a:xfrm>
            <a:off x="1039680" y="4079880"/>
            <a:ext cx="3456000" cy="2590920"/>
          </a:xfrm>
          <a:prstGeom prst="rect">
            <a:avLst/>
          </a:prstGeom>
          <a:ln w="19080">
            <a:solidFill>
              <a:srgbClr val="99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Rectangle 1"/>
          <p:cNvSpPr/>
          <p:nvPr/>
        </p:nvSpPr>
        <p:spPr>
          <a:xfrm>
            <a:off x="1143000" y="4500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активные образовательные онлайн-платформ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6" name="Picture 3" descr="Картинки по запросу учи ру"/>
          <p:cNvPicPr/>
          <p:nvPr/>
        </p:nvPicPr>
        <p:blipFill>
          <a:blip r:embed="rId1"/>
          <a:stretch/>
        </p:blipFill>
        <p:spPr>
          <a:xfrm>
            <a:off x="142920" y="1428840"/>
            <a:ext cx="5297400" cy="3000240"/>
          </a:xfrm>
          <a:prstGeom prst="rect">
            <a:avLst/>
          </a:prstGeom>
          <a:ln w="0">
            <a:noFill/>
          </a:ln>
        </p:spPr>
      </p:pic>
      <p:pic>
        <p:nvPicPr>
          <p:cNvPr id="1107" name="Picture 7" descr="Похожее изображение"/>
          <p:cNvPicPr/>
          <p:nvPr/>
        </p:nvPicPr>
        <p:blipFill>
          <a:blip r:embed="rId2"/>
          <a:stretch/>
        </p:blipFill>
        <p:spPr>
          <a:xfrm>
            <a:off x="4500720" y="300024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Text Box 7"/>
          <p:cNvSpPr/>
          <p:nvPr/>
        </p:nvSpPr>
        <p:spPr>
          <a:xfrm>
            <a:off x="903600" y="189000"/>
            <a:ext cx="811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imes New Roman"/>
              </a:rPr>
              <a:t>ИКТ во внеклассной работе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9" name="Схема 8" descr=""/>
          <p:cNvPicPr/>
          <p:nvPr/>
        </p:nvPicPr>
        <p:blipFill>
          <a:blip r:embed="rId1"/>
          <a:stretch/>
        </p:blipFill>
        <p:spPr>
          <a:xfrm>
            <a:off x="1450800" y="1163520"/>
            <a:ext cx="7339320" cy="52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Text Box 6"/>
          <p:cNvSpPr/>
          <p:nvPr/>
        </p:nvSpPr>
        <p:spPr>
          <a:xfrm>
            <a:off x="984960" y="206280"/>
            <a:ext cx="7456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ИКТ в методической работ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1" name="Picture 7" descr="http://3.bp.blogspot.com/-yD6wWsfk5pE/UcJfxE4b_6I/AAAAAAAAAA8/hmEWufx9LZY/s1600/urok.JPG"/>
          <p:cNvPicPr/>
          <p:nvPr/>
        </p:nvPicPr>
        <p:blipFill>
          <a:blip r:embed="rId1"/>
          <a:stretch/>
        </p:blipFill>
        <p:spPr>
          <a:xfrm>
            <a:off x="1071720" y="1071720"/>
            <a:ext cx="750096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2" name=""/>
          <p:cNvGraphicFramePr/>
          <p:nvPr/>
        </p:nvGraphicFramePr>
        <p:xfrm>
          <a:off x="1071720" y="428760"/>
          <a:ext cx="7286400" cy="5929200"/>
        </p:xfrm>
        <a:graphic>
          <a:graphicData uri="http://schemas.openxmlformats.org/drawingml/2006/table">
            <a:tbl>
              <a:tblPr/>
              <a:tblGrid>
                <a:gridCol w="7286400"/>
              </a:tblGrid>
              <a:tr h="5929200">
                <a:tc>
                  <a:txBody>
                    <a:bodyPr lIns="59040" rIns="59040" tIns="29520" bIns="295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ть творческих учителей: </a:t>
                      </a:r>
                      <a:r>
                        <a:rPr b="0" lang="ru-RU" sz="12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1"/>
                        </a:rPr>
                        <a:t>http://www.it-n.ru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ие электронные книги и презентации: </a:t>
                      </a:r>
                      <a:r>
                        <a:rPr b="0" lang="ru-RU" sz="12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2"/>
                        </a:rPr>
                        <a:t>http://viki.rdf.ru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хив учебных программ: </a:t>
                      </a:r>
                      <a:r>
                        <a:rPr b="0" lang="ru-RU" sz="12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3"/>
                        </a:rPr>
                        <a:t>http://rusedu.ru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уроков рисования:  </a:t>
                      </a:r>
                      <a:r>
                        <a:rPr b="0" lang="ru-RU" sz="12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4"/>
                        </a:rPr>
                        <a:t>http://www.kalyamalya.ru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есный сайт для учителей начальных классов: </a:t>
                      </a:r>
                      <a:r>
                        <a:rPr b="0" lang="ru-RU" sz="12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5"/>
                        </a:rPr>
                        <a:t>http://www.nachalka.com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йт страны мастеров: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2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6"/>
                        </a:rPr>
                        <a:t>http://stranamasterov.ru/search/node/bpjybnm-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эт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йт "Лукошко сказок": </a:t>
                      </a:r>
                      <a:r>
                        <a:rPr b="0" lang="ru-RU" sz="12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7"/>
                        </a:rPr>
                        <a:t>http://www.lukoshko.n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ценарии:  </a:t>
                      </a:r>
                      <a:r>
                        <a:rPr b="0" lang="ru-RU" sz="12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8"/>
                        </a:rPr>
                        <a:t>http://www.uroki.net/index.ht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ценарии: </a:t>
                      </a:r>
                      <a:r>
                        <a:rPr b="0" lang="ru-RU" sz="12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9"/>
                        </a:rPr>
                        <a:t>http://www.iro.yar.ru:8101/resource/dis ... education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йт учитель-учителю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 </a:t>
                      </a:r>
                      <a:r>
                        <a:rPr b="0" lang="ru-RU" sz="12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10"/>
                        </a:rPr>
                        <a:t>http://uchitel.moy.su/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нет-ресурсы для учителей начальных классов: </a:t>
                      </a:r>
                      <a:r>
                        <a:rPr b="0" lang="ru-RU" sz="12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11"/>
                        </a:rPr>
                        <a:t>http://konstantinova.21416s15.edusite.ru/p33aa1.html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нет-каталог детских сайтов: </a:t>
                      </a:r>
                      <a:r>
                        <a:rPr b="0" lang="ru-RU" sz="12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12"/>
                        </a:rPr>
                        <a:t>http://www.kinder.ru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йт для детей и взрослых, проводящих время в Интернете:</a:t>
                      </a:r>
                      <a:r>
                        <a:rPr b="0" lang="ru-RU" sz="12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13"/>
                        </a:rPr>
                        <a:t>http://laste.arvutikaitse.ee/rus/html/etusivu.ht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ета школа - множество интересностей для учеников и учителей: </a:t>
                      </a:r>
                      <a:r>
                        <a:rPr b="0" lang="ru-RU" sz="12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14"/>
                        </a:rPr>
                        <a:t>http://www.planetashkol.ru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ка для школьников и дошкольников "Сократ": </a:t>
                      </a:r>
                      <a:r>
                        <a:rPr b="0" lang="ru-RU" sz="12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15"/>
                        </a:rPr>
                        <a:t>http://www.develop-kinder.com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Кенгуру" - международная олимпиада по математике: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ttp://center.fio.ru/som/RESOURCES/KARP ... ENGURU.HT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красная коллекция клипариков, фоны и многое другое: 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ww.lenagold.ru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навательный портал: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ttp://clow.ru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лектронная энциклопедия "Мир вокруг нас":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ttp://www.bigpi.biysk.ru/encicl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нциклопедия комнатных и садовых растений: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ttp://sad.zeleno.ru/?out=submit&amp;first=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риалы для классных руководителей, завучей школ и других заинтересованных специалистов, работающих с семьями учеников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ttp://www.interpedagogika.ru/shapka.p ... =-1&amp;page=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уб учителей начальной школы: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ttp://www.4stupeni.ru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ка в начальной школе(статьи,задачник,конспекты,игры):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ttp://annik-bgpu.km.ru/index.htm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ский портал: 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ttp://www.uchportal.ru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пилка опыта учителей начальных классов: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ttp://www.uroki.net/docnach.ht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лекция звуковых эффектов (птицы, насекомые, бытовые звуки, сигналы и много другое):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ttp://www.tatarovo.ru/sound.htm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3" name="Rectangle 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Прямоугольник 3"/>
          <p:cNvSpPr/>
          <p:nvPr/>
        </p:nvSpPr>
        <p:spPr>
          <a:xfrm>
            <a:off x="1214280" y="214200"/>
            <a:ext cx="71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йты для учителей начальной шко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Rectangle 1"/>
          <p:cNvSpPr/>
          <p:nvPr/>
        </p:nvSpPr>
        <p:spPr>
          <a:xfrm flipV="1" rot="10800000">
            <a:off x="1285560" y="294840"/>
            <a:ext cx="73580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но нормам и требованиям СанПиН рекомендуемая непрерывная длительность работы, связанной с фиксацией взора непосредственно на экране, на уроке не должна превышать для обучающихся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I классе – 10 минут, во 2-4 классах - 15 минут, прослушивание аудиозаписи – 20 минут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, использовать компьютер фрагментами по 2-3 минуты, распределяя время взаимодействия детей с компьютерными программами в режиме фронтальной деятельности на протяжении всего уро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тимальное количество занятий с использованием ПК в течение учебного дн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бучающихся 1-4 классов составляет 1 ур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6" name="Прямоугольник 1" descr=""/>
          <p:cNvPicPr/>
          <p:nvPr/>
        </p:nvPicPr>
        <p:blipFill>
          <a:blip r:embed="rId1"/>
          <a:stretch/>
        </p:blipFill>
        <p:spPr>
          <a:xfrm>
            <a:off x="-171360" y="1432080"/>
            <a:ext cx="949140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AutoShape 38"/>
          <p:cNvSpPr/>
          <p:nvPr/>
        </p:nvSpPr>
        <p:spPr>
          <a:xfrm rot="510000">
            <a:off x="465120" y="1665000"/>
            <a:ext cx="2664000" cy="1504800"/>
          </a:xfrm>
          <a:prstGeom prst="cloudCallout">
            <a:avLst>
              <a:gd name="adj1" fmla="val -16060"/>
              <a:gd name="adj2" fmla="val 20745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AutoShape 40"/>
          <p:cNvSpPr/>
          <p:nvPr/>
        </p:nvSpPr>
        <p:spPr>
          <a:xfrm rot="510000">
            <a:off x="2263320" y="4487760"/>
            <a:ext cx="3024360" cy="1613160"/>
          </a:xfrm>
          <a:prstGeom prst="cloudCallout">
            <a:avLst>
              <a:gd name="adj1" fmla="val -91597"/>
              <a:gd name="adj2" fmla="val 44643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AutoShape 13"/>
          <p:cNvSpPr/>
          <p:nvPr/>
        </p:nvSpPr>
        <p:spPr>
          <a:xfrm>
            <a:off x="9685440" y="260280"/>
            <a:ext cx="2950920" cy="1873440"/>
          </a:xfrm>
          <a:prstGeom prst="cloudCallout">
            <a:avLst>
              <a:gd name="adj1" fmla="val -51722"/>
              <a:gd name="adj2" fmla="val 28981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0" name="Picture 22" descr="j0433911"/>
          <p:cNvPicPr/>
          <p:nvPr/>
        </p:nvPicPr>
        <p:blipFill>
          <a:blip r:embed="rId4"/>
          <a:stretch/>
        </p:blipFill>
        <p:spPr>
          <a:xfrm>
            <a:off x="8136000" y="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1121" name="Picture 23" descr="j0433911"/>
          <p:cNvPicPr/>
          <p:nvPr/>
        </p:nvPicPr>
        <p:blipFill>
          <a:blip r:embed="rId5"/>
          <a:stretch/>
        </p:blipFill>
        <p:spPr>
          <a:xfrm>
            <a:off x="7020000" y="98100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24" descr="j0433911"/>
          <p:cNvPicPr/>
          <p:nvPr/>
        </p:nvPicPr>
        <p:blipFill>
          <a:blip r:embed="rId6"/>
          <a:stretch/>
        </p:blipFill>
        <p:spPr>
          <a:xfrm>
            <a:off x="5796000" y="206064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1123" name="Picture 25" descr="j0433911"/>
          <p:cNvPicPr/>
          <p:nvPr/>
        </p:nvPicPr>
        <p:blipFill>
          <a:blip r:embed="rId7"/>
          <a:stretch/>
        </p:blipFill>
        <p:spPr>
          <a:xfrm>
            <a:off x="4427640" y="299736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1124" name="Picture 26" descr="j0433911"/>
          <p:cNvPicPr/>
          <p:nvPr/>
        </p:nvPicPr>
        <p:blipFill>
          <a:blip r:embed="rId8"/>
          <a:stretch/>
        </p:blipFill>
        <p:spPr>
          <a:xfrm>
            <a:off x="3276720" y="3860640"/>
            <a:ext cx="1008000" cy="100836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27" descr="j0433911"/>
          <p:cNvPicPr/>
          <p:nvPr/>
        </p:nvPicPr>
        <p:blipFill>
          <a:blip r:embed="rId9"/>
          <a:stretch/>
        </p:blipFill>
        <p:spPr>
          <a:xfrm>
            <a:off x="1835280" y="479736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28" descr="j0433911"/>
          <p:cNvPicPr/>
          <p:nvPr/>
        </p:nvPicPr>
        <p:blipFill>
          <a:blip r:embed="rId10"/>
          <a:stretch/>
        </p:blipFill>
        <p:spPr>
          <a:xfrm>
            <a:off x="395280" y="585000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29" descr="j0433911"/>
          <p:cNvPicPr/>
          <p:nvPr/>
        </p:nvPicPr>
        <p:blipFill>
          <a:blip r:embed="rId11"/>
          <a:stretch/>
        </p:blipFill>
        <p:spPr>
          <a:xfrm rot="4859400">
            <a:off x="8135640" y="584964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30" descr="j0433911"/>
          <p:cNvPicPr/>
          <p:nvPr/>
        </p:nvPicPr>
        <p:blipFill>
          <a:blip r:embed="rId12"/>
          <a:stretch/>
        </p:blipFill>
        <p:spPr>
          <a:xfrm rot="5049000">
            <a:off x="6732360" y="4941720"/>
            <a:ext cx="1008360" cy="100800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31" descr="j0433911"/>
          <p:cNvPicPr/>
          <p:nvPr/>
        </p:nvPicPr>
        <p:blipFill>
          <a:blip r:embed="rId13"/>
          <a:stretch/>
        </p:blipFill>
        <p:spPr>
          <a:xfrm rot="4205400">
            <a:off x="5363640" y="3860640"/>
            <a:ext cx="1008360" cy="100836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32" descr="j0433911"/>
          <p:cNvPicPr/>
          <p:nvPr/>
        </p:nvPicPr>
        <p:blipFill>
          <a:blip r:embed="rId14"/>
          <a:stretch/>
        </p:blipFill>
        <p:spPr>
          <a:xfrm rot="4360800">
            <a:off x="4284720" y="292428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33" descr="j0433911"/>
          <p:cNvPicPr/>
          <p:nvPr/>
        </p:nvPicPr>
        <p:blipFill>
          <a:blip r:embed="rId15"/>
          <a:stretch/>
        </p:blipFill>
        <p:spPr>
          <a:xfrm rot="4181400">
            <a:off x="2916000" y="206028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34" descr="j0433911"/>
          <p:cNvPicPr/>
          <p:nvPr/>
        </p:nvPicPr>
        <p:blipFill>
          <a:blip r:embed="rId16"/>
          <a:stretch/>
        </p:blipFill>
        <p:spPr>
          <a:xfrm rot="4026000">
            <a:off x="1618920" y="1125360"/>
            <a:ext cx="1008360" cy="100800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35" descr="j0433911"/>
          <p:cNvPicPr/>
          <p:nvPr/>
        </p:nvPicPr>
        <p:blipFill>
          <a:blip r:embed="rId17"/>
          <a:stretch/>
        </p:blipFill>
        <p:spPr>
          <a:xfrm rot="4624800">
            <a:off x="324000" y="18864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1134" name="AutoShape 36"/>
          <p:cNvSpPr/>
          <p:nvPr/>
        </p:nvSpPr>
        <p:spPr>
          <a:xfrm>
            <a:off x="-2700360" y="4149720"/>
            <a:ext cx="2374920" cy="1800360"/>
          </a:xfrm>
          <a:prstGeom prst="cloudCallout">
            <a:avLst>
              <a:gd name="adj1" fmla="val -67648"/>
              <a:gd name="adj2" fmla="val 31833"/>
            </a:avLst>
          </a:prstGeom>
          <a:blipFill rotWithShape="0">
            <a:blip r:embed="rId1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AutoShape 39"/>
          <p:cNvSpPr/>
          <p:nvPr/>
        </p:nvSpPr>
        <p:spPr>
          <a:xfrm rot="510000">
            <a:off x="3630600" y="229680"/>
            <a:ext cx="2736720" cy="1505160"/>
          </a:xfrm>
          <a:prstGeom prst="cloudCallout">
            <a:avLst>
              <a:gd name="adj1" fmla="val -103481"/>
              <a:gd name="adj2" fmla="val -1703"/>
            </a:avLst>
          </a:prstGeom>
          <a:blipFill rotWithShape="0">
            <a:blip r:embed="rId1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AutoShape 41"/>
          <p:cNvSpPr/>
          <p:nvPr/>
        </p:nvSpPr>
        <p:spPr>
          <a:xfrm rot="510000">
            <a:off x="5797080" y="2738520"/>
            <a:ext cx="2376720" cy="1144440"/>
          </a:xfrm>
          <a:prstGeom prst="cloudCallout">
            <a:avLst>
              <a:gd name="adj1" fmla="val -127273"/>
              <a:gd name="adj2" fmla="val 42097"/>
            </a:avLst>
          </a:prstGeom>
          <a:blipFill rotWithShape="0">
            <a:blip r:embed="rId2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Oval 14"/>
          <p:cNvSpPr/>
          <p:nvPr/>
        </p:nvSpPr>
        <p:spPr>
          <a:xfrm>
            <a:off x="6804000" y="476280"/>
            <a:ext cx="1657440" cy="1655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Oval 15"/>
          <p:cNvSpPr/>
          <p:nvPr/>
        </p:nvSpPr>
        <p:spPr>
          <a:xfrm>
            <a:off x="3780000" y="2421000"/>
            <a:ext cx="1728720" cy="172728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9" name="Picture 45" descr="мед"/>
          <p:cNvPicPr/>
          <p:nvPr/>
        </p:nvPicPr>
        <p:blipFill>
          <a:blip r:embed="rId21"/>
          <a:stretch/>
        </p:blipFill>
        <p:spPr>
          <a:xfrm>
            <a:off x="10339560" y="260280"/>
            <a:ext cx="1618920" cy="1728720"/>
          </a:xfrm>
          <a:prstGeom prst="rect">
            <a:avLst/>
          </a:prstGeom>
          <a:ln w="0">
            <a:noFill/>
          </a:ln>
        </p:spPr>
      </p:pic>
      <p:pic>
        <p:nvPicPr>
          <p:cNvPr id="1140" name="Picture 46" descr="ёж"/>
          <p:cNvPicPr/>
          <p:nvPr/>
        </p:nvPicPr>
        <p:blipFill>
          <a:blip r:embed="rId22">
            <a:lum bright="-6000"/>
          </a:blip>
          <a:stretch/>
        </p:blipFill>
        <p:spPr>
          <a:xfrm>
            <a:off x="-1981080" y="4149720"/>
            <a:ext cx="1341360" cy="1698480"/>
          </a:xfrm>
          <a:prstGeom prst="rect">
            <a:avLst/>
          </a:prstGeom>
          <a:ln w="0">
            <a:noFill/>
          </a:ln>
        </p:spPr>
      </p:pic>
      <p:sp>
        <p:nvSpPr>
          <p:cNvPr id="1141" name="AutoShape 48"/>
          <p:cNvSpPr/>
          <p:nvPr/>
        </p:nvSpPr>
        <p:spPr>
          <a:xfrm>
            <a:off x="2700360" y="2205000"/>
            <a:ext cx="4764240" cy="2876760"/>
          </a:xfrm>
          <a:prstGeom prst="cloudCallout">
            <a:avLst>
              <a:gd name="adj1" fmla="val -95833"/>
              <a:gd name="adj2" fmla="val 23254"/>
            </a:avLst>
          </a:prstGeom>
          <a:blipFill rotWithShape="0">
            <a:blip r:embed="rId2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2" name="Picture 47" descr="ёж"/>
          <p:cNvPicPr/>
          <p:nvPr/>
        </p:nvPicPr>
        <p:blipFill>
          <a:blip r:embed="rId24">
            <a:lum bright="-6000"/>
          </a:blip>
          <a:stretch/>
        </p:blipFill>
        <p:spPr>
          <a:xfrm rot="21116400">
            <a:off x="3492360" y="2781360"/>
            <a:ext cx="1341720" cy="1698480"/>
          </a:xfrm>
          <a:prstGeom prst="rect">
            <a:avLst/>
          </a:prstGeom>
          <a:ln w="0">
            <a:noFill/>
          </a:ln>
        </p:spPr>
      </p:pic>
      <p:pic>
        <p:nvPicPr>
          <p:cNvPr id="1143" name="Picture 49" descr="мед"/>
          <p:cNvPicPr/>
          <p:nvPr/>
        </p:nvPicPr>
        <p:blipFill>
          <a:blip r:embed="rId25"/>
          <a:stretch/>
        </p:blipFill>
        <p:spPr>
          <a:xfrm>
            <a:off x="4932360" y="2349360"/>
            <a:ext cx="1955880" cy="2087640"/>
          </a:xfrm>
          <a:prstGeom prst="rect">
            <a:avLst/>
          </a:prstGeom>
          <a:ln w="0">
            <a:noFill/>
          </a:ln>
        </p:spPr>
      </p:pic>
      <p:pic>
        <p:nvPicPr>
          <p:cNvPr id="1144" name="Picture 50" descr=""/>
          <p:cNvPicPr/>
          <p:nvPr/>
        </p:nvPicPr>
        <p:blipFill>
          <a:blip r:embed="rId26"/>
          <a:stretch/>
        </p:blipFill>
        <p:spPr>
          <a:xfrm>
            <a:off x="7093080" y="63817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145" name="Picture 57" descr="2493def5ff67"/>
          <p:cNvPicPr/>
          <p:nvPr/>
        </p:nvPicPr>
        <p:blipFill>
          <a:blip r:embed="rId27"/>
          <a:srcRect l="0" t="0" r="0" b="14917"/>
          <a:stretch/>
        </p:blipFill>
        <p:spPr>
          <a:xfrm rot="20432400">
            <a:off x="1747440" y="2579760"/>
            <a:ext cx="2162160" cy="2950920"/>
          </a:xfrm>
          <a:prstGeom prst="rect">
            <a:avLst/>
          </a:prstGeom>
          <a:ln w="0">
            <a:noFill/>
          </a:ln>
        </p:spPr>
      </p:pic>
      <p:pic>
        <p:nvPicPr>
          <p:cNvPr id="1146" name="Picture 58" descr="2493def5ff67"/>
          <p:cNvPicPr/>
          <p:nvPr/>
        </p:nvPicPr>
        <p:blipFill>
          <a:blip r:embed="rId28"/>
          <a:srcRect l="0" t="0" r="0" b="15355"/>
          <a:stretch/>
        </p:blipFill>
        <p:spPr>
          <a:xfrm rot="20432400">
            <a:off x="3135240" y="4231800"/>
            <a:ext cx="1644840" cy="2232000"/>
          </a:xfrm>
          <a:prstGeom prst="rect">
            <a:avLst/>
          </a:prstGeom>
          <a:ln w="0">
            <a:noFill/>
          </a:ln>
        </p:spPr>
      </p:pic>
      <p:pic>
        <p:nvPicPr>
          <p:cNvPr id="1147" name="Picture 59" descr="2493def5ff67"/>
          <p:cNvPicPr/>
          <p:nvPr/>
        </p:nvPicPr>
        <p:blipFill>
          <a:blip r:embed="rId29"/>
          <a:srcRect l="0" t="0" r="0" b="12650"/>
          <a:stretch/>
        </p:blipFill>
        <p:spPr>
          <a:xfrm flipH="1" rot="1369200">
            <a:off x="4059000" y="4233960"/>
            <a:ext cx="1714320" cy="2303280"/>
          </a:xfrm>
          <a:prstGeom prst="rect">
            <a:avLst/>
          </a:prstGeom>
          <a:ln w="0">
            <a:noFill/>
          </a:ln>
        </p:spPr>
      </p:pic>
      <p:pic>
        <p:nvPicPr>
          <p:cNvPr id="1148" name="Picture 60" descr="2493def5ff67"/>
          <p:cNvPicPr/>
          <p:nvPr/>
        </p:nvPicPr>
        <p:blipFill>
          <a:blip r:embed="rId30"/>
          <a:srcRect l="0" t="0" r="0" b="12993"/>
          <a:stretch/>
        </p:blipFill>
        <p:spPr>
          <a:xfrm rot="1491000">
            <a:off x="6048360" y="2660760"/>
            <a:ext cx="2476440" cy="3456000"/>
          </a:xfrm>
          <a:prstGeom prst="rect">
            <a:avLst/>
          </a:prstGeom>
          <a:ln w="0">
            <a:noFill/>
          </a:ln>
        </p:spPr>
      </p:pic>
      <p:pic>
        <p:nvPicPr>
          <p:cNvPr id="1149" name="Picture 61" descr="2493def5ff67"/>
          <p:cNvPicPr/>
          <p:nvPr/>
        </p:nvPicPr>
        <p:blipFill>
          <a:blip r:embed="rId31"/>
          <a:srcRect l="0" t="0" r="0" b="7756"/>
          <a:stretch/>
        </p:blipFill>
        <p:spPr>
          <a:xfrm rot="538200">
            <a:off x="5662440" y="4437000"/>
            <a:ext cx="1265400" cy="1871640"/>
          </a:xfrm>
          <a:prstGeom prst="rect">
            <a:avLst/>
          </a:prstGeom>
          <a:ln w="0">
            <a:noFill/>
          </a:ln>
        </p:spPr>
      </p:pic>
      <p:pic>
        <p:nvPicPr>
          <p:cNvPr id="1150" name="Picture 62" descr="2493def5ff67"/>
          <p:cNvPicPr/>
          <p:nvPr/>
        </p:nvPicPr>
        <p:blipFill>
          <a:blip r:embed="rId32"/>
          <a:stretch/>
        </p:blipFill>
        <p:spPr>
          <a:xfrm rot="20742600">
            <a:off x="4284720" y="1844640"/>
            <a:ext cx="126504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" fill="hold"/>
                                        <p:tgtEl>
                                          <p:spTgt spid="1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500"/>
                            </p:stCondLst>
                            <p:childTnLst>
                              <p:par>
                                <p:cTn id="5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500"/>
                            </p:stCondLst>
                            <p:childTnLst>
                              <p:par>
                                <p:cTn id="6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00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500"/>
                            </p:stCondLst>
                            <p:childTnLst>
                              <p:par>
                                <p:cTn id="7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500"/>
                            </p:stCondLst>
                            <p:childTnLst>
                              <p:par>
                                <p:cTn id="7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60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6500"/>
                            </p:stCondLst>
                            <p:childTnLst>
                              <p:par>
                                <p:cTn id="8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70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500"/>
                            </p:stCondLst>
                            <p:childTnLst>
                              <p:par>
                                <p:cTn id="9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80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8500"/>
                            </p:stCondLst>
                            <p:childTnLst>
                              <p:par>
                                <p:cTn id="10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90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9500"/>
                            </p:stCondLst>
                            <p:childTnLst>
                              <p:par>
                                <p:cTn id="1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1500"/>
                            </p:stCondLst>
                            <p:childTnLst>
                              <p:par>
                                <p:cTn id="12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3500"/>
                            </p:stCondLst>
                            <p:childTnLst>
                              <p:par>
                                <p:cTn id="14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6500"/>
                            </p:stCondLst>
                            <p:childTnLst>
                              <p:par>
                                <p:cTn id="149" nodeType="afterEffect" fill="hold" presetClass="path" presetID="7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7037E-006 L 5E-006 0.54537 L -0.63369 0.54537 L -0.63369 -3.7037E-006 L 5E-006 -3.7037E-006 Z">
                                      <p:cBhvr>
                                        <p:cTn id="150" dur="2000" fill="hold"/>
                                        <p:tgtEl>
                                          <p:spTgt spid="1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2500"/>
                            </p:stCondLst>
                            <p:childTnLst>
                              <p:par>
                                <p:cTn id="15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3000"/>
                            </p:stCondLst>
                            <p:childTnLst>
                              <p:par>
                                <p:cTn id="156" nodeType="afterEffect" fill="hold" presetClass="entr" presetID="35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9000"/>
                            </p:stCondLst>
                            <p:childTnLst>
                              <p:par>
                                <p:cTn id="163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7239 0.33587 L -0.17396 -0.06227 C -0.11093 -0.15186 -0.01701 -0.19954 0.08056 -0.19954 C 0.19236 -0.19954 0.28177 -0.15186 0.34479 -0.06227 L 0.64584 0.33587 E">
                                      <p:cBhvr>
                                        <p:cTn id="164" dur="3000" fill="hold"/>
                                        <p:tgtEl>
                                          <p:spTgt spid="1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2000"/>
                            </p:stCondLst>
                            <p:childTnLst>
                              <p:par>
                                <p:cTn id="1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700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2000"/>
                            </p:stCondLst>
                            <p:childTnLst>
                              <p:par>
                                <p:cTn id="184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49 -0.02871 L 0.13264 -0.01667 C 0.15799 -0.01482 0.18681 0.00162 0.21215 0.02778 C 0.2408 0.05741 0.25886 0.08935 0.26615 0.12153 L 0.30417 0.26898 E">
                                      <p:cBhvr>
                                        <p:cTn id="185" dur="2000" fill="hold"/>
                                        <p:tgtEl>
                                          <p:spTgt spid="1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4000"/>
                            </p:stCondLst>
                            <p:childTnLst>
                              <p:par>
                                <p:cTn id="187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0.01065 L -0.03125 0.15347 C -0.04149 0.18333 -0.06441 0.2169 -0.09184 0.24305 C -0.12326 0.27338 -0.15243 0.28842 -0.17812 0.2919 L -0.29635 0.31088 E">
                                      <p:cBhvr>
                                        <p:cTn id="188" dur="2000" fill="hold"/>
                                        <p:tgtEl>
                                          <p:spTgt spid="1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46000"/>
                            </p:stCondLst>
                            <p:childTnLst>
                              <p:par>
                                <p:cTn id="190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38 0.01343 L -0.09878 -0.025 C -0.11875 -0.03264 -0.14028 -0.05324 -0.15885 -0.08078 C -0.18003 -0.11203 -0.19184 -0.1412 -0.19566 -0.16898 L -0.21319 -0.29629 E">
                                      <p:cBhvr>
                                        <p:cTn id="191" dur="2000" fill="hold"/>
                                        <p:tgtEl>
                                          <p:spTgt spid="1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48000"/>
                            </p:stCondLst>
                            <p:childTnLst>
                              <p:par>
                                <p:cTn id="193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2.96296E-006 L 0.04566 -0.1199 C 0.05521 -0.14652 0.07482 -0.17268 0.09896 -0.19236 C 0.12639 -0.21481 0.15191 -0.22546 0.17361 -0.22477 L 0.27448 -0.22662 E">
                                      <p:cBhvr>
                                        <p:cTn id="194" dur="2000" fill="hold"/>
                                        <p:tgtEl>
                                          <p:spTgt spid="1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00"/>
                            </p:stCondLst>
                            <p:childTnLst>
                              <p:par>
                                <p:cTn id="196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7" dur="2000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2000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2000"/>
                            </p:stCondLst>
                            <p:childTnLst>
                              <p:par>
                                <p:cTn id="201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2" dur="1000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1000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3000"/>
                            </p:stCondLst>
                            <p:childTnLst>
                              <p:par>
                                <p:cTn id="206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7" dur="3000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3000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6000"/>
                            </p:stCondLst>
                            <p:childTnLst>
                              <p:par>
                                <p:cTn id="211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2" dur="3000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3000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90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95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60500"/>
                            </p:stCondLst>
                            <p:childTnLst>
                              <p:par>
                                <p:cTn id="23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10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61500"/>
                            </p:stCondLst>
                            <p:childTnLst>
                              <p:par>
                                <p:cTn id="2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62000"/>
                            </p:stCondLst>
                            <p:childTnLst>
                              <p:par>
                                <p:cTn id="24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5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«Если мы будем учить сегодня так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как мы учили вчера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мы украдем у наших детей завтра»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                                                           Джон Дью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1" name="Прямоугольник 1" descr=""/>
          <p:cNvPicPr/>
          <p:nvPr/>
        </p:nvPicPr>
        <p:blipFill>
          <a:blip r:embed="rId1"/>
          <a:stretch/>
        </p:blipFill>
        <p:spPr>
          <a:xfrm>
            <a:off x="-128520" y="2236680"/>
            <a:ext cx="9424800" cy="1305000"/>
          </a:xfrm>
          <a:prstGeom prst="rect">
            <a:avLst/>
          </a:prstGeom>
          <a:ln w="0">
            <a:noFill/>
          </a:ln>
        </p:spPr>
      </p:pic>
      <p:sp>
        <p:nvSpPr>
          <p:cNvPr id="1152" name="TextBox 2"/>
          <p:cNvSpPr/>
          <p:nvPr/>
        </p:nvSpPr>
        <p:spPr>
          <a:xfrm>
            <a:off x="-206640" y="955800"/>
            <a:ext cx="972720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Book Antiqua"/>
              </a:rPr>
              <a:t>ИКТ дают возможнос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обогатить, качественно обнови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процесс обучени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способствуют лучшей адаптации учащих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сохранению здоровь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повышению эффективности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образовательного проце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ИКТ в образовании 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57" name=""/>
          <p:cNvSpPr txBox="1"/>
          <p:nvPr/>
        </p:nvSpPr>
        <p:spPr>
          <a:xfrm>
            <a:off x="1071720" y="1221840"/>
            <a:ext cx="775944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это комплекс учебно–методических материалов, технических и инструментальных средств вычислительной техники в учебном процессе, формах и методах их применения для совершенствования деятельности специалистов учреждений образования (администрации, воспитателей, специалистов), а также для образования (развития, диагностики, коррекции)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2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3900"/>
            </a:b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5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b1d15"/>
                </a:solidFill>
                <a:latin typeface="Times New Roman"/>
                <a:ea typeface="Times New Roman"/>
              </a:rPr>
              <a:t>Основная цель применения ИКТ: </a:t>
            </a:r>
            <a:r>
              <a:rPr b="0" lang="ru-RU" sz="3200" spc="-1" strike="noStrike">
                <a:solidFill>
                  <a:srgbClr val="3b1d15"/>
                </a:solidFill>
                <a:latin typeface="Times New Roman"/>
                <a:ea typeface="Times New Roman"/>
              </a:rPr>
              <a:t>повышение качества обучения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b1d15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3b1d15"/>
                </a:solidFill>
                <a:latin typeface="Times New Roman"/>
                <a:ea typeface="Times New Roman"/>
              </a:rPr>
              <a:t>Задачи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b1d15"/>
                </a:solidFill>
                <a:latin typeface="Times New Roman"/>
                <a:ea typeface="Times New Roman"/>
              </a:rPr>
              <a:t>усиление интенсивности урок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b1d15"/>
                </a:solidFill>
                <a:latin typeface="Times New Roman"/>
                <a:ea typeface="Times New Roman"/>
              </a:rPr>
              <a:t>повышение мотивации учащихся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b1d15"/>
                </a:solidFill>
                <a:latin typeface="Times New Roman"/>
                <a:ea typeface="Times New Roman"/>
              </a:rPr>
              <a:t>мониторинг их достижений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1428480" y="28548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акторы, влияющие на применение ИКТ: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61" name=""/>
          <p:cNvSpPr txBox="1"/>
          <p:nvPr/>
        </p:nvSpPr>
        <p:spPr>
          <a:xfrm>
            <a:off x="1142640" y="1484280"/>
            <a:ext cx="748188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ая цель урока и тип урок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енность обучающихся класс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гиенические требования к работе за компьютером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ень подготовленности класс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товность учащихся к новому виду учебной деятельности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50"/>
                                        <p:tgtEl>
                                          <p:spTgt spid="10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0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250"/>
                                        <p:tgtEl>
                                          <p:spTgt spid="10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0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250"/>
                                        <p:tgtEl>
                                          <p:spTgt spid="10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Text Box 4"/>
          <p:cNvSpPr/>
          <p:nvPr/>
        </p:nvSpPr>
        <p:spPr>
          <a:xfrm>
            <a:off x="284760" y="260280"/>
            <a:ext cx="8481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Ресурсы ИКТ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используемые в начальных класс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Text Box 5"/>
          <p:cNvSpPr/>
          <p:nvPr/>
        </p:nvSpPr>
        <p:spPr>
          <a:xfrm>
            <a:off x="-90720" y="1987560"/>
            <a:ext cx="203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Дис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Rectangle 6"/>
          <p:cNvSpPr/>
          <p:nvPr/>
        </p:nvSpPr>
        <p:spPr>
          <a:xfrm>
            <a:off x="5509800" y="4123440"/>
            <a:ext cx="351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Мультимедий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презент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Rectangle 7"/>
          <p:cNvSpPr/>
          <p:nvPr/>
        </p:nvSpPr>
        <p:spPr>
          <a:xfrm>
            <a:off x="6402240" y="2473920"/>
            <a:ext cx="247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Web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 - сай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Line 8"/>
          <p:cNvSpPr/>
          <p:nvPr/>
        </p:nvSpPr>
        <p:spPr>
          <a:xfrm flipH="1">
            <a:off x="1618920" y="1584360"/>
            <a:ext cx="1120680" cy="69228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Line 9"/>
          <p:cNvSpPr/>
          <p:nvPr/>
        </p:nvSpPr>
        <p:spPr>
          <a:xfrm>
            <a:off x="5219640" y="1584360"/>
            <a:ext cx="1800360" cy="249228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Line 10"/>
          <p:cNvSpPr/>
          <p:nvPr/>
        </p:nvSpPr>
        <p:spPr>
          <a:xfrm>
            <a:off x="6114960" y="1584360"/>
            <a:ext cx="1409760" cy="83664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Line 8"/>
          <p:cNvSpPr/>
          <p:nvPr/>
        </p:nvSpPr>
        <p:spPr>
          <a:xfrm flipH="1">
            <a:off x="3317760" y="1584360"/>
            <a:ext cx="462240" cy="312084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Rectangle 6"/>
          <p:cNvSpPr/>
          <p:nvPr/>
        </p:nvSpPr>
        <p:spPr>
          <a:xfrm>
            <a:off x="267480" y="4798800"/>
            <a:ext cx="422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Интерактивная до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Line 8"/>
          <p:cNvSpPr/>
          <p:nvPr/>
        </p:nvSpPr>
        <p:spPr>
          <a:xfrm>
            <a:off x="4821120" y="1584360"/>
            <a:ext cx="111240" cy="426096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Прямоугольник 1"/>
          <p:cNvSpPr/>
          <p:nvPr/>
        </p:nvSpPr>
        <p:spPr>
          <a:xfrm>
            <a:off x="2014560" y="5845320"/>
            <a:ext cx="683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ифровые энциклопедии и слова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Прямоугольник 2"/>
          <p:cNvSpPr/>
          <p:nvPr/>
        </p:nvSpPr>
        <p:spPr>
          <a:xfrm>
            <a:off x="253440" y="3262320"/>
            <a:ext cx="2512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учающ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грамм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Line 8"/>
          <p:cNvSpPr/>
          <p:nvPr/>
        </p:nvSpPr>
        <p:spPr>
          <a:xfrm flipH="1">
            <a:off x="1835280" y="1584360"/>
            <a:ext cx="1482480" cy="177336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Text Box 7"/>
          <p:cNvSpPr/>
          <p:nvPr/>
        </p:nvSpPr>
        <p:spPr>
          <a:xfrm>
            <a:off x="387000" y="520560"/>
            <a:ext cx="854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Направления в использовании ИК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Прямая соединительная линия 2"/>
          <p:cNvSpPr/>
          <p:nvPr/>
        </p:nvSpPr>
        <p:spPr>
          <a:xfrm flipH="1">
            <a:off x="826560" y="1228680"/>
            <a:ext cx="1008360" cy="6159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7" name="Прямая со стрелкой 3"/>
          <p:cNvCxnSpPr/>
          <p:nvPr/>
        </p:nvCxnSpPr>
        <p:spPr>
          <a:xfrm>
            <a:off x="826560" y="1844280"/>
            <a:ext cx="1288440" cy="1080"/>
          </a:xfrm>
          <a:prstGeom prst="straightConnector1">
            <a:avLst/>
          </a:prstGeom>
          <a:ln w="442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78" name="Прямая соединительная линия 4"/>
          <p:cNvSpPr/>
          <p:nvPr/>
        </p:nvSpPr>
        <p:spPr>
          <a:xfrm>
            <a:off x="825480" y="1844640"/>
            <a:ext cx="1440" cy="4105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9" name="Прямая со стрелкой 5"/>
          <p:cNvCxnSpPr/>
          <p:nvPr/>
        </p:nvCxnSpPr>
        <p:spPr>
          <a:xfrm>
            <a:off x="826920" y="3690720"/>
            <a:ext cx="1369440" cy="1080"/>
          </a:xfrm>
          <a:prstGeom prst="straightConnector1">
            <a:avLst/>
          </a:prstGeom>
          <a:ln w="442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80" name="Прямая со стрелкой 6"/>
          <p:cNvCxnSpPr/>
          <p:nvPr/>
        </p:nvCxnSpPr>
        <p:spPr>
          <a:xfrm>
            <a:off x="825480" y="5949720"/>
            <a:ext cx="1334160" cy="1080"/>
          </a:xfrm>
          <a:prstGeom prst="straightConnector1">
            <a:avLst/>
          </a:prstGeom>
          <a:ln w="442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81" name="Text Box 4">
            <a:hlinkClick r:id="rId1" action="ppaction://hlinksldjump"/>
          </p:cNvPr>
          <p:cNvSpPr/>
          <p:nvPr/>
        </p:nvSpPr>
        <p:spPr>
          <a:xfrm>
            <a:off x="1772640" y="1413000"/>
            <a:ext cx="67431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5436a"/>
                </a:solidFill>
                <a:latin typeface="Times New Roman"/>
              </a:rPr>
              <a:t>ИКТ в учебном процесс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создание презентаций к урока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спользование ЦОР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здание тестов, работа с ресурсами интернет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Text Box 5">
            <a:hlinkClick r:id="rId2" action="ppaction://hlinksldjump"/>
          </p:cNvPr>
          <p:cNvSpPr/>
          <p:nvPr/>
        </p:nvSpPr>
        <p:spPr>
          <a:xfrm>
            <a:off x="681120" y="3429000"/>
            <a:ext cx="87962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5436a"/>
                </a:solidFill>
                <a:latin typeface="Times New Roman"/>
              </a:rPr>
              <a:t>ИКТ во внеклассной рабо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создание презентац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 внеклассным мероприятия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одительским собрания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узыкальное сопровождение, создание грамо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Text Box 8">
            <a:hlinkClick r:id="rId3" action="ppaction://hlinksldjump"/>
          </p:cNvPr>
          <p:cNvSpPr/>
          <p:nvPr/>
        </p:nvSpPr>
        <p:spPr>
          <a:xfrm>
            <a:off x="2338200" y="5656320"/>
            <a:ext cx="548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5436a"/>
                </a:solidFill>
                <a:latin typeface="Times New Roman"/>
              </a:rPr>
              <a:t>ИКТ в методической работ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Прямоугольник 1"/>
          <p:cNvSpPr/>
          <p:nvPr/>
        </p:nvSpPr>
        <p:spPr>
          <a:xfrm>
            <a:off x="1143000" y="620640"/>
            <a:ext cx="753264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5436a"/>
                </a:solidFill>
                <a:latin typeface="Times New Roman"/>
                <a:ea typeface="Times New Roman"/>
              </a:rPr>
              <a:t>Возможности использование ИК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бъявления т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для сопровождения объяснения учи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как информационно-обучающее пособ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для контроля и мониторинга зн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Text Box 4"/>
          <p:cNvSpPr/>
          <p:nvPr/>
        </p:nvSpPr>
        <p:spPr>
          <a:xfrm>
            <a:off x="1624320" y="136440"/>
            <a:ext cx="6451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ИКТ в учебном процесс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Text Box 7">
            <a:hlinkClick r:id="rId1" action="ppaction://hlinksldjump"/>
          </p:cNvPr>
          <p:cNvSpPr/>
          <p:nvPr/>
        </p:nvSpPr>
        <p:spPr>
          <a:xfrm>
            <a:off x="2008440" y="905040"/>
            <a:ext cx="562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спользование готовых Ц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7" name="Picture 9" descr="Картинки по запросу планета знаний приложение к учебнику"/>
          <p:cNvPicPr/>
          <p:nvPr/>
        </p:nvPicPr>
        <p:blipFill>
          <a:blip r:embed="rId2"/>
          <a:stretch/>
        </p:blipFill>
        <p:spPr>
          <a:xfrm>
            <a:off x="142920" y="2571840"/>
            <a:ext cx="4486320" cy="398628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11" descr="Похожее изображение"/>
          <p:cNvPicPr/>
          <p:nvPr/>
        </p:nvPicPr>
        <p:blipFill>
          <a:blip r:embed="rId3"/>
          <a:stretch/>
        </p:blipFill>
        <p:spPr>
          <a:xfrm>
            <a:off x="4381560" y="157176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9T19:13:26Z</dcterms:created>
  <dc:creator>ирина</dc:creator>
  <dc:description/>
  <dc:language>en-US</dc:language>
  <cp:lastModifiedBy>GYPNORION</cp:lastModifiedBy>
  <dcterms:modified xsi:type="dcterms:W3CDTF">2019-03-20T06:03:55Z</dcterms:modified>
  <cp:revision>73</cp:revision>
  <dc:subject/>
  <dc:title>Презентация PowerPoint</dc:title>
</cp:coreProperties>
</file>