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B38-67B9-4232-A555-7C85FE7E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5C8-2BD2-41AC-AB1E-F1CFE6B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CEA-EB7F-492C-9F17-818C8F87F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E91-911D-4086-A29C-6D2805DB9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2DB-6D21-400E-8CA5-80D70EEE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8555-4F7D-49D4-8183-A3074011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D01A-91F5-493E-AA60-996E3706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B7A-343C-4AA2-BB0F-9E811094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2ED5-B736-407D-A0A6-129C1DD4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B2FD-2847-4CCB-9B76-B882A1BC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D3C-8A5A-4E9C-BCB5-0677DCFE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8DF-F451-4802-B772-4399DDFD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75A5-F487-414E-8ED6-B52069C37C7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159A-36B5-4C34-AAEA-8A78427C9E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8713800" cy="5805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Права человека в школе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 rot="20312400">
            <a:off x="4883040" y="1052280"/>
            <a:ext cx="4692600" cy="4630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765000"/>
            <a:ext cx="51354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880" indent="10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бсуждае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онятие прав 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о на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вобода выражения своего м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о на неприкосновенность частной и семейной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аво на уважение человеческого достоин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 правах педагог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80" indent="1044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250920" y="6356520"/>
            <a:ext cx="86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9060-2B88-453D-81CC-FE535F867D7A}" type="slidenum">
              <a:rPr b="1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 rot="20312400">
            <a:off x="4883040" y="1052280"/>
            <a:ext cx="4692600" cy="4630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108000" y="1197000"/>
            <a:ext cx="51354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111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ль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40" indent="111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40" indent="111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свещение и школьников в духе идей толерантности, ненасилия, миротворчества, уважения к правам человека, идеалам демократии и гуманиз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" indent="111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250920" y="6356520"/>
            <a:ext cx="86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B921-E3F1-4BBF-8AFC-2DE738367946}" type="slidenum">
              <a:rPr b="1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 rot="20312400">
            <a:off x="4932360" y="620280"/>
            <a:ext cx="4692600" cy="4630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24000" y="1484280"/>
            <a:ext cx="51354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1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ть чувство доброты и прививать желание взаимопомощи необходимо с самого раннего возраста. Для школьников же чрезвычайно важно создавать среду для возможности помочь нуждающим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40" indent="1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лонтёрство для школьника – это  возможность быть вовлеченными в общество и влиять на это общество. Волонтёрство - мощный инструмент социальных перемен, культурного и экономического ро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250920" y="6356520"/>
            <a:ext cx="86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847C-86AB-4970-B8B8-322B097E16AD}" type="slidenum">
              <a:rPr b="1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G_256"/>
          <p:cNvPicPr/>
          <p:nvPr/>
        </p:nvPicPr>
        <p:blipFill>
          <a:blip r:embed="rId1"/>
          <a:stretch/>
        </p:blipFill>
        <p:spPr>
          <a:xfrm>
            <a:off x="395280" y="333360"/>
            <a:ext cx="4067280" cy="2146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564000" cy="307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4140000" cy="310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_zKw3785dIs"/>
          <p:cNvPicPr/>
          <p:nvPr/>
        </p:nvPicPr>
        <p:blipFill>
          <a:blip r:embed="rId4"/>
          <a:stretch/>
        </p:blipFill>
        <p:spPr>
          <a:xfrm>
            <a:off x="539640" y="2852640"/>
            <a:ext cx="3494160" cy="2621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 rot="20312400">
            <a:off x="4932360" y="620280"/>
            <a:ext cx="4692600" cy="46306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250920" y="1268280"/>
            <a:ext cx="513540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1116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общеобразовательной среде школы существует дефицит формирования у учащихся правовых, коммуникативных, речевых умений и навыков. Мы способствуем  формированию образовательно-воспитательной сре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омер слайда 4"/>
          <p:cNvSpPr/>
          <p:nvPr/>
        </p:nvSpPr>
        <p:spPr>
          <a:xfrm>
            <a:off x="250920" y="6356520"/>
            <a:ext cx="864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5707-31B6-484A-868C-95CC4ED7B616}" type="slidenum">
              <a:rPr b="1" lang="ru-RU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18:11:10Z</dcterms:created>
  <dc:creator>ЕМ</dc:creator>
  <dc:description/>
  <dc:language>en-US</dc:language>
  <cp:lastModifiedBy>Зам.директора по ВР</cp:lastModifiedBy>
  <dcterms:modified xsi:type="dcterms:W3CDTF">2019-02-26T08:36:30Z</dcterms:modified>
  <cp:revision>20</cp:revision>
  <dc:subject/>
  <dc:title>Права человека в школе Виртуальная выставка</dc:title>
</cp:coreProperties>
</file>