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СОШ  с углублённым изучением предметов художественно-эстетического цикла № 23 г. Комсомольска-на-Амуре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3DE1-EE68-432A-B820-A1A3D18E34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СОШ  с углублённым изучением предметов художественно-эстетического цикла № 23 г. Комсомольска-на-Амуре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СОШ  с углублённым изучением предметов художественно-эстетического цикла № 23 г. Комсомольска-на-Амуре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342F-553D-40E7-B882-B49A1A5468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C0A-1819-4B64-B23D-E144FC48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844-F936-47AD-A92D-AA0E54A3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D633-6C23-4B39-8A34-BD751D75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3679-EDE8-48AD-961C-358E1646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85C7-0332-44E7-BE89-878A6D7B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1A5D-348F-4464-B7E7-90F3A104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2F04-A34F-4E31-95BD-58DF84F4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7E22-ECA7-4D98-9BE0-56652566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7983-C2C0-4925-B1D8-68FCC133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234-89F0-40CD-A575-1ABC26C1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CF53-9821-4AE4-B1C1-8F181CD4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BA9D-1E0A-4426-9E8D-87B545CE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E6B1-0AFC-47CA-9A99-D1DFA5656A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184464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883280" cy="60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Программа «ВЕКТОР» - основа для самоопределения в мире професси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3640" y="5516640"/>
            <a:ext cx="856908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лидова Л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АОУ  «СОШ №133» г. Перми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4" descr=""/>
          <p:cNvPicPr/>
          <p:nvPr/>
        </p:nvPicPr>
        <p:blipFill>
          <a:blip r:embed="rId2"/>
          <a:stretch/>
        </p:blipFill>
        <p:spPr>
          <a:xfrm>
            <a:off x="2556000" y="476280"/>
            <a:ext cx="4986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0920" y="155700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Когда человек не знае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к какой пристани он держит  пу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для него ни один ветер не будет попутн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Сен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16192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Цель программы</a:t>
            </a: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обеспечить развитие когнитивного компонента, связанного с готовностью к профессиональному самоопредел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(высокий уровень готовности к профессиональному самоопределению не менее чем у 70%  обучающихс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1332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262673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920" y="98100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Создать банк программ профильных и профессиональных проб, КСК с  профессиональной составляющ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17636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8000" y="-360"/>
            <a:ext cx="8928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Системообразующий фактор формирования готовности школьников к выбору профессии - 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профессиональная про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Этапы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Поисково-познавате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(1-7 класс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Социально-деятельност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(8-9 класс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Профессионально-определяющ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(10-11 класс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11160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684360" cy="549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23640" y="259920"/>
            <a:ext cx="8569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Итог профессиональных проб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ознакомление с миром профессий, их классификаци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определение предпочтительных сфер труда, мотивов выбора професс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знание индивидуальных особенностей личности: мотивы, ценности, направленность, профессиональная пригод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осуществление пробы сил в выбранном направлении профессиональ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684360" cy="549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501120" y="333360"/>
            <a:ext cx="82472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6 линеек профессиональных проб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«Школа безопасности»</a:t>
            </a: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«Зеленая апте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«ЭкоДом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222268"/>
                </a:solidFill>
                <a:latin typeface="Arial"/>
              </a:rPr>
              <a:t>IT</a:t>
            </a: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ишка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«</a:t>
            </a: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Глаза боятся – руки  делают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«Кухня народов мира»</a:t>
            </a: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Уровни реализации направлений профессиональных проб: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1042920" cy="836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«Радуга профессий» (НОО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«ПрофГид» (ООО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«Выбор» (СО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«РЕАЛИЗАЦИЯ КСК С ПРОФЕССИОНАЛЬНОЙ СОСТАВЛЯЮЩЕЙ КАК ОДИН ИЗ СИСТЕМООБРАЗУЮЩИХ ФАКТОРОВ ФОРМИРОВАНИЯ ГОТОВНОСТИ ШКОЛЬНИКОВ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К ВЫБОРУ ПРОФЕСС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826920" cy="765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:\Users\татьяна\Pictures\1369158702_1602.jpg"/>
          <p:cNvPicPr/>
          <p:nvPr/>
        </p:nvPicPr>
        <p:blipFill>
          <a:blip r:embed="rId2"/>
          <a:stretch/>
        </p:blipFill>
        <p:spPr>
          <a:xfrm>
            <a:off x="755640" y="2060640"/>
            <a:ext cx="79930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1:23:47Z</dcterms:created>
  <dc:creator>Тася</dc:creator>
  <dc:description/>
  <dc:language>en-US</dc:language>
  <cp:lastModifiedBy>татьяна</cp:lastModifiedBy>
  <dcterms:modified xsi:type="dcterms:W3CDTF">2019-03-23T08:44:17Z</dcterms:modified>
  <cp:revision>179</cp:revision>
  <dc:subject/>
  <dc:title>Развитие социального партнерства школы как фактор  совершенствования управления качеством образования</dc:title>
</cp:coreProperties>
</file>