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СОШ  с углублённым изучением предметов художественно-эстетического цикла № 23 г. Комсомольска-на-Амур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EDFC-BE3F-43D2-B627-C204574432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СОШ  с углублённым изучением предметов художественно-эстетического цикла № 23 г. Комсомольска-на-Амур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СОШ  с углублённым изучением предметов художественно-эстетического цикла № 23 г. Комсомольска-на-Амур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C3B0-B22A-4E6D-87BA-4A1E2C7E08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5E7-99AA-473C-BB17-D9970EAA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077-3CA8-4B43-B1F9-28D611AC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37F-718B-47B5-8E60-5C606961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B29-F5B8-491D-9D39-6D177C03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78E-E193-4AE8-8553-BA06C03D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0DF-FA41-4A78-BD39-D9BC3508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B52-B230-495A-AFD7-DACB6C4A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166-77D4-4E60-AFC0-EB9DFF85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9D4-6A19-4515-A653-A209828D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05D-57D4-4CD7-BDD0-F0105E5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1BE-B952-40F6-8C30-81BDB63E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241-021C-4D16-BE69-78EED1A4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7252-2BD6-47D3-A7DD-44719E552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84464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81342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73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2d2d8a"/>
                </a:solidFill>
                <a:latin typeface="Arial"/>
              </a:rPr>
              <a:t>Проектирование и внедрение инновационной модели развивающей комфортной среды школы средствами социального взаимодействия и сетевых интерактивных технологий: перспективы развития</a:t>
            </a:r>
            <a:r>
              <a:rPr b="1" i="1" lang="ru-RU" sz="4000" spc="-1" strike="noStrike">
                <a:solidFill>
                  <a:srgbClr val="262673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3640" y="5876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дамова Э.В., директор МАОУ «СОШ №133» 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d2d8a"/>
                </a:solidFill>
                <a:latin typeface="Arial"/>
              </a:rPr>
              <a:t>В основе программы  - личностная модель образовательной среды (В.А. Ясвин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62673"/>
                </a:solidFill>
                <a:latin typeface="Arial"/>
              </a:rPr>
              <a:t>Структурные компоненты</a:t>
            </a:r>
            <a:r>
              <a:rPr b="0" i="1" lang="ru-RU" sz="5400" spc="-1" strike="noStrike">
                <a:solidFill>
                  <a:srgbClr val="262673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184464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343080" indent="-343080">
              <a:spcBef>
                <a:spcPts val="1199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22268"/>
                </a:solidFill>
                <a:latin typeface="Arial"/>
              </a:rPr>
              <a:t>пространственно-предметный</a:t>
            </a:r>
            <a:r>
              <a:rPr b="1" lang="ru-RU" sz="48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22268"/>
                </a:solidFill>
                <a:latin typeface="Arial"/>
              </a:rPr>
              <a:t>социа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22268"/>
                </a:solidFill>
                <a:latin typeface="Arial"/>
              </a:rPr>
              <a:t>психодидактический</a:t>
            </a:r>
            <a:r>
              <a:rPr b="1" lang="ru-RU" sz="48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Достижения</a:t>
            </a:r>
            <a:br>
              <a:rPr sz="3600"/>
            </a:b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2016-2018 годы: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8000" y="134100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18 образовательных програм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артнерские отношения с новыми 7 организаци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эргономика школьного простран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1116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684360" cy="549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23640" y="259920"/>
            <a:ext cx="8569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2 м. в городской экологической олимпиа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команда-победитель районного конкурса «Безопасное колес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1 м. в соревновании по волейбо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1 м. в Открытом чемпионате по скалолаз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Arial"/>
              </a:rPr>
              <a:t>2 м. в Чемпионате по интеллектуальным играм среди работников ОУ Мотовилихин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684360" cy="54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01120" y="954000"/>
            <a:ext cx="82472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1 м. в городском проекте  «Образ Лет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3 м. в городском проекте «Академия естествозн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2226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2 м. в городском конкурсе «Мой первый открытый урок» (2016г. и 2018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7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РОБЛЕМЫ-ЗАДАЧИ </a:t>
            </a:r>
            <a:br>
              <a:rPr sz="3200"/>
            </a:b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2019-2020 учебного год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недрение ФГОС в 9 класс и подготовка к введению ФГОС среднего обще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ГОС для детей с ОВЗ и инклюзивное образ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овая модель аттестации педагогов в рамках формирования национальной системы учительского ро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82692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УТИ ДАЛЬНЕЙШЕЙ МОДЕР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684360" cy="549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8360" y="1267920"/>
            <a:ext cx="8424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98400" indent="-698400" algn="just">
              <a:spcBef>
                <a:spcPts val="799"/>
              </a:spcBef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Принцип ШСО «Школа как самообучающаяся организа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468360" y="2492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Использование технологии    мобильного обуч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539640" y="364500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2626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Своевременное, достаточное и персонализированное </a:t>
            </a:r>
            <a:r>
              <a:rPr b="1" i="1" lang="ru-RU" sz="3200" spc="-1" strike="noStrike">
                <a:solidFill>
                  <a:srgbClr val="262673"/>
                </a:solidFill>
                <a:latin typeface="Georgia"/>
              </a:rPr>
              <a:t>обучение</a:t>
            </a: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 (“</a:t>
            </a:r>
            <a:r>
              <a:rPr b="1" i="1" lang="en-US" sz="3200" spc="-1" strike="noStrike">
                <a:solidFill>
                  <a:srgbClr val="262673"/>
                </a:solidFill>
                <a:latin typeface="Arial"/>
              </a:rPr>
              <a:t>just</a:t>
            </a: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262673"/>
                </a:solidFill>
                <a:latin typeface="Arial"/>
              </a:rPr>
              <a:t>in</a:t>
            </a: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262673"/>
                </a:solidFill>
                <a:latin typeface="Arial"/>
              </a:rPr>
              <a:t>time</a:t>
            </a: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262673"/>
                </a:solidFill>
                <a:latin typeface="Arial"/>
              </a:rPr>
              <a:t>just enough</a:t>
            </a: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262673"/>
                </a:solidFill>
                <a:latin typeface="Arial"/>
              </a:rPr>
              <a:t>and just</a:t>
            </a: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262673"/>
                </a:solidFill>
                <a:latin typeface="Arial"/>
              </a:rPr>
              <a:t>for</a:t>
            </a: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262673"/>
                </a:solidFill>
                <a:latin typeface="Arial"/>
              </a:rPr>
              <a:t>me</a:t>
            </a: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Documents and Settings\User\Рабочий стол\9 А классу, шк. 133 от О.В\Эмблема школы.jpg"/>
          <p:cNvPicPr/>
          <p:nvPr/>
        </p:nvPicPr>
        <p:blipFill>
          <a:blip r:embed="rId1"/>
          <a:stretch/>
        </p:blipFill>
        <p:spPr>
          <a:xfrm>
            <a:off x="0" y="0"/>
            <a:ext cx="826920" cy="76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татьяна\Pictures\1369158702_1602.jpg"/>
          <p:cNvPicPr/>
          <p:nvPr/>
        </p:nvPicPr>
        <p:blipFill>
          <a:blip r:embed="rId2"/>
          <a:stretch/>
        </p:blipFill>
        <p:spPr>
          <a:xfrm>
            <a:off x="755640" y="1773360"/>
            <a:ext cx="7993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1:23:47Z</dcterms:created>
  <dc:creator>Тася</dc:creator>
  <dc:description/>
  <dc:language>en-US</dc:language>
  <cp:lastModifiedBy>татьяна</cp:lastModifiedBy>
  <dcterms:modified xsi:type="dcterms:W3CDTF">2019-03-20T19:02:34Z</dcterms:modified>
  <cp:revision>172</cp:revision>
  <dc:subject/>
  <dc:title>Развитие социального партнерства школы как фактор  совершенствования управления качеством образования</dc:title>
</cp:coreProperties>
</file>