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FFF-5CB7-457A-9B7D-25118686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744-F999-4296-8749-1D45FD1B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532-FEA2-495E-9A50-46F4EAE4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910-8085-4957-AA51-BAB48F0A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D30B-E754-46AE-A8BB-E7810B8D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343E-C227-4340-B2E5-12DBDF0A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35B5-6FF5-4F89-9CFF-02624009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B1D7-EFB0-44E1-BEEF-9C6239AF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C3B6-2292-4808-AC9B-6C9B3F38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A044-1CBB-418C-9273-5E25FAE0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1F69-CF82-4B46-92D0-8C055D6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8EA-19CB-4E6A-B761-9E5B3E2F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873C-1B6B-473D-BE3B-3B0FD1AC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4AAB-BE0E-4E0D-AC98-BAF5431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0D31-F692-41D1-8276-E5D5ED42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68C1-907C-4F77-AC8B-DD671A61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64AD-4435-41CC-B6FB-EF3B87E1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933-A7E1-4674-9701-33B72236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E4C-CFDC-4E56-BAB0-F3A68315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92E-6419-4226-876E-625B8C7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C25-FED2-49B1-B23B-B084B08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86C-6C33-4D44-80F5-0D35F1C1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A87-C134-483E-814A-3072E20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F96-BF62-4A45-B919-E7090C8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26EDCB-A95C-4A80-B306-4815BB83FB1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D4D7A0-127E-4292-9B9D-3839B7A1C97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одели интегрированного (инклюзивного) образова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одели</a:t>
            </a: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нтегр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.Постоянная полная интеграция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.Дозированная интеграци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остоянная неполная интегр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остоянная частичная интеграц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ременная и частичная интеграц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3.Эпизодическая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интеграция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стоянная полная интегр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ная интеграция может быть эффективна для тех детей, чей уровень психофизического и речевого развития соответствует или приближается к возрастной норме и кто психологически готов к совместному со здоровыми сверстниками обучению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стоянная неполная интегр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на может быть эффективна для тех детей школьного возраста, чей уровень психического развития несколько ниже возрастной нормы, кто нуждается в систематической и значительной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оррекционной помощ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но при этом способен в целом ряде предметных областей обучаться совместно и наравне с нормально развивающимися сверстниками, а также проводить с ними большую часть внеклассного времен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мыслом постоянной неполной интеграции школьников является максимальное использование всего потенциала уже имеющихся у ребенка и довольно значительных возможностей общения, взаимодействия и обучения с нормально развивающимися деть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стоянная частичная интегр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жет быть полезна тем, кто способен наравне со своими нормально развивающимися сверстниками овладевать лишь небольшой частью необходимых умений и навыков, проводить с ними только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часть учебного и внеклассного времен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мыслом постоянной частичной интеграции является расширение общения и взаимодействия детей с ограниченными возможностями здоровья с их нормально развивающимися сверстни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тех массовых школах, где открыты специальные классы для детей с определенным отклонением в разви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Временная и частичная интегр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спитанники специальной группы или класса вне зависимости от достигнутого уровня развития объединяются со своими нормально развивающимися сверстниками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е реже 2-х раз в месяц для проведения совместных мероприятий в основном воспитательного характе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пизодическая</a:t>
            </a: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 интегр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иентирована на специальные дошкольные и школьные учреждения, которые ограничены в возможностях проведения целенаправленной работы по совместному с нормально развивающимися детьми воспитанию и обучению своих воспитанни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мыслом эпизодической интеграции является целенаправленная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ганизация хотя бы минимального социального взаимодействия детей с выраженными нарушениями развития со сверстник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облемы интеграц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ребует системного подхода, основанного на соответствующей политике государств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ведение в соответствие с требованиями инклюзивного образования всех подсистем (нормативно-правовых, экономических, социальных. образовательных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Болезненность» введения инклюзивного образования в общеобразовательной школ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циально-психологический аспект проблем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тельная интеграция внедряется без специальной подготовки учителя, психолога массовой системы образо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сутствие в массовой школе педагогов-дефектолог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истема школьных ценностей отечественной массовой школы находится в противоречии с идеей инклюзивного образования (ориентирование не на личность как таковую, а на результат, подмена партнерства и сотрудничества – конкуренцией и др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Оценка коррекционно-развивающего потенциала                                   обще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228600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нализируемый фактор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.Наличие в школе дефектологов или учителей, прошедших повышение квалификации в данной обла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.Наличие в месте проживания ребенка Центра психолого-медико-педагогического сопровождения и взаимодействия школы с данным Центром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.Наличие команды специалистов с единым пониманием сущности трудностей развития (врач, психолог, логопед, педагог-дефектолог, социальный педагог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.Возможности организации дифференцированного или интегрированного обучения в данной школе (подготовленные специалисты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5.Наличие в школе отрецензированных комплексных Программ оказания помощи детям с трудностями в развити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6.Наличие в школе помещений для размещения кабинетов психолога, логопеда, комнаты психологической разгрузки, места для проведения различных видов тренинговой рабо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7.Наличие методического кабинета с дидактическим и игровым материалом для организации коррекционно-развивающей рабо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8.Наличие в школе подборки современной литературы, посвященной диагностике и коррекции трудностей развития у детей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рудности внедрения инклюзивного образова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ти с ОВЗ и родител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Очевидна значимость барьеров «архитектурного» окружения ученика — физическая недоступность окружающей среды (например, отсутствие пандусов, лифтов в школе, недоступность транспорта между школой и домом, отсутствие звуковых светофоров на переходе по пути в школу и т.д)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Еще более значимыми трудностями оказываются  «барьеры», возникающие во взаимоотношениях люд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отовность педагогов обучать детей с различными  образовательными потребностя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тро стоит проблема неготовности учителей массовой школы к работе с детьми  с особыми образовательными потребностями, обнаруживается недостаток профессиональных компетенций педагогов в работе в инклюзивной среде, наличие психологических барьеров, и профессиональных стереотипов учителей. Помочь педагогам в преодолении этих трудностей сможет повышение квалификации, программы магистратуры и бакалавриата, творческие мастерские, обмен опытом и стажировки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деале, следует создать базовое образовательное учреждение, для того чтобы педагоги могли перенимать опыт, тех, кто непосредственно работает в среде инклюз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Актуальность проблемы развития интегрированного образования в Росси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ясняется необходимостью внедрения интегрированного (инклюзивного)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значительностью успехов (а точнее сказать неудач образовательной интеграции в России) двадцатилетнего периода (с 90-х годов ХХ века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юсы И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400" y="2276280"/>
            <a:ext cx="871524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  В новых Федеральных Государственных стандартах начальной и основной школы  предусмотрено создание специальных условий для обучения детей с ОВЗ; их комплексное психолого-педагогическое сопровождение; создание индивидуального учебного  плана для детей с ОВЗ и одаренных детей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  Национальная стратегия действий в интересах детей на 2012-2017 годы определяет законодательное обеспечение равного доступа к качественному образованию, право на инклюзивное образование по месту жительства, право родителей на  выбор образовательного учреждения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  Государственная программа «Доступная среда» на 2011-2015 годы, которая создает условия без барьерной среды, а к 2016 году обеспечит совместное обучение инвалидов и лиц, не имеющих нарушений развития, в общем количестве должна составить не менее 20 %, сейчас их только 2,5 %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новное преимущество инклюзивного подхода в обучении — это создание гибкой образовательной среды, удовлетворяющей каждого ребенка, соответствующей индивидуальным интеллектуальным, физическим и психическим потребностям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сомненным плюсом для общества, а в частности для родителей,  является интеграция и социализация детей с ОВЗ (ограниченными возможностями здоровья).</a:t>
            </a:r>
            <a:br>
              <a:rPr sz="20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42600" y="2362320"/>
            <a:ext cx="835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о главное, к чему призывают сторонники совместного обучения, – это искоренение дискриминации и воспитание толерантности: дети, получающие инклюзивное образование, учатся милосердию, взаимоуважению и терпимости. Итогом внедрения такой методологии должно стать улучшение качества жизни учащихся в целом и тех из них, кто относится к социально-уязвимым группам.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оме того, инклюзивное образование способствует нравственному оздоровлению общества.</a:t>
            </a:r>
            <a:br>
              <a:rPr sz="20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26560" y="2286000"/>
            <a:ext cx="813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 в завершении, мне хотелось бы вернуться к притче. Трудности видят многие и педагоги и родители, при этом единицы готовы преодолевать их творчески, при появлении новой поверхности, в данном случае внедрения инклюзивного образования, в общество приходит изменение в сознании о недопустимости ранжировать и клеймить детей медицинскими и педагогическими диагноз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ы, как специалисты, должны уметь писать на любой поверхности, преодолевая любые трудности, дать возможность каждому оставить свой сле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ермин «социальная интеграция» впервые появился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явился в ХХ в. и применялся первоначально в США к проблемам расовых, этнических меньшинств, позднее - к детям эмигран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 60-х годов ХХ в.  вошел в речевой оборот на Европейском контингенте и стал применяться в контексте  проблем лиц с ограниченными возможностям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лючевую роль в разворачивании интеграционных процессов сыграл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двинутая скандинавскими странами концепция «нормализации» в 60-е г.г. ХХв. – законодательно закрепленная позиция социальной политики в отношении лиц с ограниченными возможностями, в основе которой – идея о нормализации условий социальной жизни для инвалидов в соответствии с международными правовыми актами («Декларация прав человека» и пр.). Одной из составных частей нормализации стало интегрированное (позднее – инклюзивное) образов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мена терминологии в 80-е годы ХХ в. в СШ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явление нового термина , обозначающего ситуацию активного участия каждого ученика в совместном обучении,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inclusio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ключе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спространение в мире благодаря международным документам, ставшим руководством к действию для целого ряда развитых стра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1994 г. в г.Саламанка (Испания) проводится Всемирная конференция по образованию лиц с особыми потребностями, которая вводит в международный обиход термин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«инклюзия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провозглашает принцип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инклюзивного обуч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520" y="7138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нклюзивное образование предусматривает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только активное включение и участие детей и подростков с ограниченными возможностями в образовательный процесс  обычной школ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о 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рестройку всего процесса массового образования как системы обеспечения образовательных потребностей всех дете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грация </a:t>
            </a:r>
            <a:br>
              <a:rPr sz="24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форма социального бытия осуществление неограничиваемого участия человека с особыми потребностями во всех социальных процесс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озможность совместной жизни и учения обычных детей и детей с ограниченными возможностями при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поддержке и сопровождении этого процесса мерами экономического, организационного, дидактического и методического характер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казатели уровня развития интеграционных процессов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2361960"/>
            <a:ext cx="85723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личие и исполнение в стране соотвествующего законодательства, согласно которому возможно инклюзивное образовани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еспеченность экономической основы этих законодательных акт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сутствие нормативно-бюрократических препятствий для внедрения инклюзивного образ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отовность и способность имеющих отношение к этой проблеме специалистов к коллективной совместной работ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ализация мер по профилактике, раннему выявлению и помощи детям с ОВЗ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ведение массовой школой системных преобразований учебно-воспитательного процесса благодаря которым обеспечивается полноценное участие детей с ОВЗ во всей жизни школ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ертифицированность специальной образовательной среды в образовательных учреждения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личие социальных и образовательных условий для жизни ребенка с ОВЗ в семь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аво выбора родителей, где будет обучаться ребенок; наличие экономического обеспечения этого пра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ализация интеграционного (инклюзивного) подхода в разных формах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Неквалифицированные действия по введению интеграции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ханическое помещение детей с различными образовательными возможностями в общеобразовательные классы рассматривается как псевдоинтеграция, которая может привести к различны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негативным последствия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4:49:59Z</dcterms:created>
  <dc:creator>user</dc:creator>
  <dc:description/>
  <dc:language>en-US</dc:language>
  <cp:lastModifiedBy>Владислав</cp:lastModifiedBy>
  <dcterms:modified xsi:type="dcterms:W3CDTF">2020-01-08T23:14:16Z</dcterms:modified>
  <cp:revision>11</cp:revision>
  <dc:subject/>
  <dc:title>Модели интегрированного (инклюзивного) образования</dc:title>
</cp:coreProperties>
</file>