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42D-D31D-4F29-B048-39C5D1F2A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96BA-CD31-4452-8F51-B5490A4B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455-B7C9-49F7-AFD3-7DD28AC2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2614-C5FF-4245-B197-31A4F0B99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7D352-C7D2-4165-87C7-747AF4B5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B25A-00EC-4F98-AB8C-3D11B008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FA32-C359-4258-B3A4-999CC6EC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1286-D464-41DC-9775-2EB78055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6F65-0E44-4F7A-BD8B-E56F6003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F9C1-311C-431A-B600-DF83352C7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77771-AF97-4AF0-B287-614FCC76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42F-C8E6-4B8F-99D7-C99ECE67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82167-B18F-47E7-941B-BC6ECB7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8378-5874-4DEE-B485-0D9C5849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1745-829C-4BFB-AF99-50DC38D6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2AAF-DC26-4269-8434-1F9E0FE1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2BA1-1777-4262-A04E-B2512851B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AE37-0EDA-4934-808B-C848F963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B785-8141-416D-B375-49DDFDE0D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9A495-0B04-4B8E-B4F3-CDDD322C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A1600-8F2B-469B-816F-CE57297C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E0EFD-7567-4FF3-AA87-A3986EDC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9928-3729-420D-837F-7602525A2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4336E-5996-48B4-A49C-3FDBC4AE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A6DE9-5728-4E76-8559-953F66A2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5F73D-A2AC-4F4B-BEBB-D32A432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8564C-3A82-4CD3-9598-CCEAA3A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17BE0-3964-406D-8E46-D304EAB4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B5068-2E30-4489-AA7F-415DA07F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D1E69-738F-4158-85B8-84864984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19795-C49E-4CF6-8713-8EF570E8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7C184-DB6A-4598-94DD-EF1E3D7D6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63C54-CABE-4131-B756-CB083CD6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C7CB-22A7-4A86-8F9B-CE8C694D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D8DF0-3EDD-4CC5-B333-6638AA8F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6AD50-973F-401D-AD93-BCB25410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C1719-5EAA-40CE-9478-46B85511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11F75-BC22-4FB4-B76C-EB3F568B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24AB6-6F89-477A-A4DB-5D6C06CB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2AD83-BEDC-4E82-AD91-F76AC19B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0FAF1-F3F3-4819-951B-8DA70D5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4071-4673-4965-862C-E8EDEF5D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83C6D-6026-4A29-B548-6674C653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821-1EFA-4B02-9A34-CC9831E3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948-28EB-4826-BA76-95A96EB1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27B-F10F-471A-A978-209522CC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2AA-E5F9-4F64-B9B2-EC1B3864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9D6-B620-4E76-A4BA-E46A5652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e0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56F2-EC72-4BA6-8A8C-AEC5C7A25C4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e0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BAE0-9BD7-4F15-94DF-2F9329F8496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e0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B537-50FB-4F3C-B950-EA4ED94E164B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e0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3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4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5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6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7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FC3A-2F27-42D6-90EB-95EB5BD50CCA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03600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21306a"/>
                </a:solidFill>
                <a:latin typeface="Arial Black"/>
              </a:rPr>
              <a:t>НАПИЧКАННЫЙ ЗНАНИЯМИ, НО НЕ УМЕЮЩИЙ ИХ ИСПОЛЬЗОВАТЬ  НАПОМИНАЕТ ФАРШИРОВАННУЮ РЫБУ, КОТОРАЯ НЕ МОЖЕТ ПЛАВАТЬ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r">
              <a:spcBef>
                <a:spcPts val="9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А.Л.МИНЦ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6183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 Рефлексия: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дискуссия по результатам совместной деятельности автора мастер-класса и слушателей;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100000"/>
              </a:lnSpc>
              <a:spcBef>
                <a:spcPts val="7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заключительное слово педагога-мастера по всем замечаниям и предложениям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988640"/>
            <a:ext cx="76183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0" algn="ctr">
              <a:lnSpc>
                <a:spcPct val="8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Модель проведения мастер-класса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0" algn="ctr">
              <a:lnSpc>
                <a:spcPct val="8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0" algn="ctr">
              <a:lnSpc>
                <a:spcPct val="8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194040" indent="0" algn="ctr">
              <a:lnSpc>
                <a:spcPct val="8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Схема 2" descr=""/>
          <p:cNvPicPr/>
          <p:nvPr/>
        </p:nvPicPr>
        <p:blipFill>
          <a:blip r:embed="rId1"/>
          <a:stretch/>
        </p:blipFill>
        <p:spPr>
          <a:xfrm>
            <a:off x="103320" y="255600"/>
            <a:ext cx="87357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Схема 2" descr=""/>
          <p:cNvPicPr/>
          <p:nvPr/>
        </p:nvPicPr>
        <p:blipFill>
          <a:blip r:embed="rId1"/>
          <a:stretch/>
        </p:blipFill>
        <p:spPr>
          <a:xfrm>
            <a:off x="92160" y="255600"/>
            <a:ext cx="885024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Схема 2" descr=""/>
          <p:cNvPicPr/>
          <p:nvPr/>
        </p:nvPicPr>
        <p:blipFill>
          <a:blip r:embed="rId1"/>
          <a:stretch/>
        </p:blipFill>
        <p:spPr>
          <a:xfrm>
            <a:off x="92160" y="255600"/>
            <a:ext cx="874692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6183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КРИТЕРИИ КАЧЕСТВА ПОДОТОВКИ И ПРОВЕДЕНИЯ: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РЕЗЕНТАТИВНОСТЬ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ЭКСКЛЮЗИВНОСТЬ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ПРОГРЕССИВНОСТЬ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МОТИВИРОВАННОСТЬ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ПТИМАЛЬНОСТЬ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ЭФФЕКТИВНОСТЬ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ТЕХНОЛОГИЧНОСТЬ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АРТИСТИЧНОСТЬ,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rebuchet MS"/>
              </a:rPr>
              <a:t>ОБЩАЯ КУЛЬТУР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187200" y="5172120"/>
            <a:ext cx="8783640" cy="580680"/>
          </a:xfrm>
          <a:prstGeom prst="rect">
            <a:avLst/>
          </a:prstGeom>
          <a:gradFill rotWithShape="0">
            <a:gsLst>
              <a:gs pos="0">
                <a:srgbClr val="b1e2fd"/>
              </a:gs>
              <a:gs pos="100000">
                <a:srgbClr val="76c6f1"/>
              </a:gs>
            </a:gsLst>
            <a:lin ang="5400000"/>
          </a:gradFill>
          <a:ln w="9360">
            <a:solidFill>
              <a:srgbClr val="5eccf3"/>
            </a:solidFill>
            <a:miter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306a"/>
                </a:solidFill>
                <a:latin typeface="Trebuchet MS"/>
              </a:rPr>
              <a:t>Т.Н.Опанасю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3369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Прямоугольник 1" descr=""/>
          <p:cNvPicPr/>
          <p:nvPr/>
        </p:nvPicPr>
        <p:blipFill>
          <a:blip r:embed="rId1"/>
          <a:stretch/>
        </p:blipFill>
        <p:spPr>
          <a:xfrm>
            <a:off x="944640" y="1663560"/>
            <a:ext cx="7304040" cy="682920"/>
          </a:xfrm>
          <a:prstGeom prst="rect">
            <a:avLst/>
          </a:prstGeom>
          <a:ln w="0">
            <a:noFill/>
          </a:ln>
        </p:spPr>
      </p:pic>
      <p:sp>
        <p:nvSpPr>
          <p:cNvPr id="237" name="TextBox 2"/>
          <p:cNvSpPr/>
          <p:nvPr/>
        </p:nvSpPr>
        <p:spPr>
          <a:xfrm>
            <a:off x="324000" y="333360"/>
            <a:ext cx="84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21306a"/>
                </a:solidFill>
                <a:latin typeface="Arial"/>
              </a:rPr>
              <a:t>МАОУ «СРЕДНЯЯ ОБЩЕОБРАЗОВАТЕЛЬНАЯ ШКОЛА №133» Г.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76183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404040"/>
                </a:solidFill>
                <a:uFillTx/>
                <a:latin typeface="Trebuchet MS"/>
              </a:rPr>
              <a:t>Мастер–класс</a:t>
            </a:r>
            <a:r>
              <a:rPr b="0" lang="ru-RU" sz="4000" spc="-1" strike="noStrike">
                <a:solidFill>
                  <a:srgbClr val="404040"/>
                </a:solidFill>
                <a:latin typeface="Trebuchet MS"/>
              </a:rPr>
              <a:t>– это </a:t>
            </a: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форма демонстрации новых возможностей педагогики развития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7618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собенности мастер-класса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) новый подход к процессу обучения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) форма работы в малых группах, позволяющая провести обмен мнениям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) создание условий для включения всех участников мастер-класса в активную деятельность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) постановка проблемной задачи и ее решение через проигрывание заданных ситуаций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) демонстрация приемов, раскрывающих творческий потенциал, как Мастера, так и участников мастер-класс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6) сотрудничество, сотворчество, совместный поиск решения педагогической задачи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 algn="ctr">
              <a:lnSpc>
                <a:spcPct val="8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0" algn="ctr">
              <a:lnSpc>
                <a:spcPct val="8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610920" y="459720"/>
            <a:ext cx="8064360" cy="502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ОТЛИЧИТЕЛЬНАЯ ОСОБЕННОСТЬ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едущий специалист не только </a:t>
            </a:r>
            <a:r>
              <a:rPr b="1" i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рассказывает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и, что очень важно, </a:t>
            </a:r>
            <a:r>
              <a:rPr b="1" i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оказывает</a:t>
            </a: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как он применяет на практике новую технологию или метод и какова результативность его работы.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618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0" algn="ctr">
              <a:lnSpc>
                <a:spcPct val="80000"/>
              </a:lnSpc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лгоритм проведения «Мастер-класса»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 algn="ctr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Презентация педагогического опыта педагога-мастера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боснование основных идей педагогической технологии, применяемой учителем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демонстрация результативности деятельности учащихся, свидетельствующая об эффективности используемой технологии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пределение проблем и перспектив в работе педагога-мастера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писание системы уроков (занятий) в режиме эффективной педагогической технологии, представляемой педагогом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19240" indent="0" algn="ctr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761832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Представление системы учебных занятий: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рассказ педагога о проекте занятия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пределение основных приемов и методов работы, которые будут демонстрироваться автором мастер-класса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краткая характеристика результативности используемой технологии;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вопросы педагогу по изложенному проекту.</a:t>
            </a: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825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76183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Проведение урока (занятия) или имитационной игры: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автор мастер-класса проводит учебное занятие со слушателями с демонстрацией приемов эффективной работы с учащимися;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лушатели играют одновременно две роли: учащихся экспериментального класса и экспертов, присутствующих на открытом занятии.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8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11280" y="404640"/>
            <a:ext cx="76183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 Моделирование: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самостоятельная работа слушателей по разработке собственной модели урока (занятия) в режиме продемонстрированной педагогической технологии;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автор мастер-класса исполняет роль консультанта, организует самостоятельную деятельность слушателей и управляет ею;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обсуждение авторских моделей урока (занятия) слушателями и автором мастер-класса.</a:t>
            </a: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 algn="ctr">
              <a:lnSpc>
                <a:spcPct val="80000"/>
              </a:lnSpc>
              <a:spcBef>
                <a:spcPts val="774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9T09:55:54Z</dcterms:created>
  <dc:creator>IRINA.V</dc:creator>
  <dc:description/>
  <dc:language>en-US</dc:language>
  <cp:lastModifiedBy>татьяна</cp:lastModifiedBy>
  <dcterms:modified xsi:type="dcterms:W3CDTF">2017-11-19T20:35:28Z</dcterms:modified>
  <cp:revision>56</cp:revision>
  <dc:subject/>
  <dc:title>Центр подготовки учителей проектного обучения Педагогическое сообщество учебного проектирования</dc:title>
</cp:coreProperties>
</file>