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У СОШ  с углублённым изучением предметов художественно-эстетического цикла № 23 г. Комсомольска-на-Амуре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A0E30-8382-40FD-8F90-96B6EA3FDD0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У СОШ  с углублённым изучением предметов художественно-эстетического цикла № 23 г. Комсомольска-на-Амуре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Верхний колонтитул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У СОШ  с углублённым изучением предметов художественно-эстетического цикла № 23 г. Комсомольска-на-Амуре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Номер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8D7AC-C564-46BA-B405-FB3CF4CAA98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8FA4-181A-4A6F-8EFB-1640E794B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878B-7FA7-464F-B4E6-43AE744FC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8787-D164-4A2E-8D28-9C89327E6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A5E9-5B22-489F-98AC-2EEFBA590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F609-ECE4-4F57-BA9D-2516D555F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443A-6CE5-4B71-91CC-38F577C48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0AE1-B1F8-4B26-BA7C-417F4D343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2175-753C-4962-AF6E-41422ED7F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F9A4-EF2F-4CD1-84ED-2CC8097B5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FEF3-91A9-49F2-A935-671501165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D6FB-7AF7-44E0-8F3C-2B7AAA0CA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29D5-ADB2-42B0-9BC8-9E9C21D0F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4FDED-96A8-432F-AABD-3DEA9EF0DB1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C:\Documents and Settings\User\Рабочий стол\9 А классу, шк. 133 от О.В\Эмблема школы.jpg"/>
          <p:cNvPicPr/>
          <p:nvPr/>
        </p:nvPicPr>
        <p:blipFill>
          <a:blip r:embed="rId1"/>
          <a:stretch/>
        </p:blipFill>
        <p:spPr>
          <a:xfrm>
            <a:off x="0" y="0"/>
            <a:ext cx="2340000" cy="17002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440" y="549360"/>
            <a:ext cx="8134200" cy="52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262673"/>
                </a:solidFill>
                <a:latin typeface="Arial"/>
              </a:rPr>
              <a:t>«Методика проектирования уроков в современной информационной образовательной среде: технологическая карта урок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23640" y="4292280"/>
            <a:ext cx="856908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панасюк Т.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47280" y="0"/>
            <a:ext cx="713916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ЭТАПЫ ПЛАНИРОВАНИЯ УРО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  ТИПА УРОКА, РАЗРАБОТКА ЕГО СТРУКТУ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БОР ОПТИМАЛЬНОГО  СОДЕРЖАНИЯ УЧЕБНОГО МАТЕРИАЛА УРО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ДЕЛЕНИЕ ГЛАВНОГО ОПОРНОГО  УЧЕБНОГО МАТЕРИАЛА В ОБЩЕМ СОДЕРЖАНИИ УРО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ОР ТЕХНОЛОГИЙ, МЕТОДОВ, СРЕДСТВ,  ПРИЕМОВ ОБУЧЕНИЯ В СООТВЕТСТВИИ С ТИПОМ УРО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ОР  ОРГАНИЗАЦИОННЫХ  ФОРМ  ДЕЯТЕЛЬНОСТИ ОБУЧАЮЩИХСЯ НА УРОКЕ И ОПТИМАЛЬНОГО ОБЪЕМА  ИХ САМОСТОЯТЕЛЬНОЙ РАБО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 ФОРМЫ И ОБЪЕМА ДОМАШНЕГО ЗАД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 ФОРМ ПОДВЕДЕНИЯ ИТОГОВ УРОКА, РЕФЛЕКС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ФОРМЛЕНИЕ ТЕХНОЛОГИЧЕСКОЙ КАРТЫ УРО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C:\Documents and Settings\User\Рабочий стол\9 А классу, шк. 133 от О.В\Эмблема школы.jpg"/>
          <p:cNvPicPr/>
          <p:nvPr/>
        </p:nvPicPr>
        <p:blipFill>
          <a:blip r:embed="rId1"/>
          <a:stretch/>
        </p:blipFill>
        <p:spPr>
          <a:xfrm>
            <a:off x="0" y="0"/>
            <a:ext cx="154764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99640" y="115920"/>
            <a:ext cx="7704360" cy="4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СТРУКТУРА ТЕХНОЛОГИЧЕСКОЙ КАРТЫ УРО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324000" y="549000"/>
            <a:ext cx="836280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М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УРО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ВАНИЕ ТЕ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ПОНЯТИЯ ТЕ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И УСВОЕНИЯ УЧЕБНОГО СОДЕРЖ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РУЕМЫЕ РЕЗУЛЬТАТЫ (ЛИЧНОСТНЫЕ, ПРЕДМЕТНЫЕ, МЕТАПРЕДМЕТНЫ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ПРЕДМЕТНЫЕ СВЯЗИ И ОРГАНИЗАЦИЯ ПРОСТРАНСТВА (ФОРМЫ РАБОТЫ И РЕСУРС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УЧИТЕЛЯ И ДЕЯТЕЛЬНОСТЬ ОБУЧАЮЩИХ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ОЛОГИЯ ИЗУЧЕНИЯ УКАЗАННОЙ ТЕМЫ (НА КАЖДОМ ЭТАПЕ РАБОТЫ ОПРЕДЕЛЯЕТСЯ ЦЕЛЬ И ПРОГНОЗИРУЕМЫЙ РЕЗУЛЬТАТ, ДАЮТСЯ ПРАКТИЧЕСКИЕ ЗАДАНИЯ НА ОТРАБОТКУ МАТЕРИАЛА И ДИАГНОСТИЧЕСКИЕ ЗАДАНИЯ НА ПРОВЕРКУ ЕГО ПОНИМАНИЯ И УСВОЕН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РУЕМЫЕ РЕЗУЛЬТА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ОЛЬНОЕ ЗАДАНИЕ НА ПРОВЕРК ДОСТИЖЕНИЯ  ПЛАНИРУЕМЫХ РЕЗУЛЬТАТ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C:\Documents and Settings\User\Рабочий стол\9 А классу, шк. 133 от О.В\Эмблема школы.jpg"/>
          <p:cNvPicPr/>
          <p:nvPr/>
        </p:nvPicPr>
        <p:blipFill>
          <a:blip r:embed="rId1"/>
          <a:stretch/>
        </p:blipFill>
        <p:spPr>
          <a:xfrm>
            <a:off x="0" y="0"/>
            <a:ext cx="684360" cy="63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47280" y="188640"/>
            <a:ext cx="713916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ru-RU" sz="32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ПРАВИЛА, ОБЕСПЕЧИВАЮЩИЕ УСПЕШНОЕ ПРОВЕДЕНИЕ ПЛАНИРУЕМОГО УРО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Т ИНДИВИДУАЛЬНЫХ  ВОЗРАСТНЫХ И ПСИХОЛОГИЧЕСКИХ  ОСОБЕННОСТЕЙ ОБУЧАЮЩИХСЯ КЛАССА, УРОВНЯ ИХ ЗНАН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БОР  РАЗНООБРАЗНЫХ  УЧЕБНЫХ  ЗАДАНИЙ И СИТУАЦ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ФФЕРЕНЦИАЦИЯ УЧЕБНЫХ ЗАДА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C:\Documents and Settings\User\Рабочий стол\9 А классу, шк. 133 от О.В\Эмблема школы.jpg"/>
          <p:cNvPicPr/>
          <p:nvPr/>
        </p:nvPicPr>
        <p:blipFill>
          <a:blip r:embed="rId1"/>
          <a:stretch/>
        </p:blipFill>
        <p:spPr>
          <a:xfrm>
            <a:off x="0" y="0"/>
            <a:ext cx="154764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47280" y="115560"/>
            <a:ext cx="7139160" cy="20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СОЗДАНИЕ  ТАБЛИЦЫ ТИПОЛОГИИ УРОКОВ ПО ФГОС </a:t>
            </a:r>
            <a:br>
              <a:rPr sz="2000"/>
            </a:br>
            <a:r>
              <a:rPr b="1" i="1" lang="ru-RU" sz="20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С  ЭТАПАМИ  УРОКОВ  И ЧАСТИЧНО МАТРИЦЫ : ОСНОВНОЕ СОДЕРЖАНИЕ ДЕЯТЕЛЬНОСТИ </a:t>
            </a:r>
            <a:r>
              <a:rPr b="1" i="1" lang="ru-RU" sz="32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ПО ФОРМИРОВАНИЮ  УУД  </a:t>
            </a:r>
            <a:r>
              <a:rPr b="1" i="1" lang="ru-RU" sz="16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(КОНКРЕТНО ПО КАЖДОМУ ВИДУ УУД  ПРОПИСАТЬ  ДЕЙСТВИЯ, ЭЛЕМЕНТЫ СОДЕРЖАНИЯ И ПЛАНИРУЕМЫЕ РЕЗУЛЬТАТЫ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2565360"/>
            <a:ext cx="822960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ки «открытия» нового знания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ки отработки умений и рефлексии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ки общеметодологической направленности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ки развивающего контроля.</a:t>
            </a:r>
            <a:br>
              <a:rPr sz="2800"/>
            </a:b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C:\Documents and Settings\User\Рабочий стол\9 А классу, шк. 133 от О.В\Эмблема школы.jpg"/>
          <p:cNvPicPr/>
          <p:nvPr/>
        </p:nvPicPr>
        <p:blipFill>
          <a:blip r:embed="rId1"/>
          <a:stretch/>
        </p:blipFill>
        <p:spPr>
          <a:xfrm>
            <a:off x="0" y="0"/>
            <a:ext cx="154764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47280" y="115560"/>
            <a:ext cx="713916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Решение педагогического сове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26792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ть творческую группу по разработке методических рекомендаций по составлению технологической карты урока (отв.Адамова Э.В., срок до 20 января 2017г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ить методическую литературу и материалы в сети Интернет по данному вопросу (отв. Руководители ШМО, срок до марта  2017г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ать методические рекомендации для учителей по составлению технологической карты (отв. Опанасюк Т.Н., срок до мая 2017г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пробировать технологические карты через показ открытых уроков (отв. Врхошинская Н.В., срок  2017/18 учебный год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ки развивающего контроля.</a:t>
            </a:r>
            <a:br>
              <a:rPr sz="2400"/>
            </a:b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C:\Documents and Settings\User\Рабочий стол\9 А классу, шк. 133 от О.В\Эмблема школы.jpg"/>
          <p:cNvPicPr/>
          <p:nvPr/>
        </p:nvPicPr>
        <p:blipFill>
          <a:blip r:embed="rId1"/>
          <a:stretch/>
        </p:blipFill>
        <p:spPr>
          <a:xfrm>
            <a:off x="0" y="0"/>
            <a:ext cx="154764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C:\Users\татьяна\Pictures\7195814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Georgia"/>
              </a:rPr>
              <a:t>Спасибо за активное участ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C:\Documents and Settings\User\Рабочий стол\9 А классу, шк. 133 от О.В\Эмблема школы.jpg"/>
          <p:cNvPicPr/>
          <p:nvPr/>
        </p:nvPicPr>
        <p:blipFill>
          <a:blip r:embed="rId2"/>
          <a:stretch/>
        </p:blipFill>
        <p:spPr>
          <a:xfrm>
            <a:off x="0" y="260280"/>
            <a:ext cx="118728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578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62673"/>
                </a:solidFill>
                <a:latin typeface="Arial"/>
              </a:rPr>
              <a:t>НАЦИОНАЛЬНАЯ ОБРАЗОВАТЕЛЬНАЯ ИНИЦИАТИВА «НАША НОВАЯ ШКОЛ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484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ые образовательные стандар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ка талан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ершенствование учительского корпу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ение школьной инфраструкту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хранение и укрепление здоровья школьни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ширение самостоятельности шк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C:\Documents and Settings\User\Рабочий стол\9 А классу, шк. 133 от О.В\Эмблема школы.jpg"/>
          <p:cNvPicPr/>
          <p:nvPr/>
        </p:nvPicPr>
        <p:blipFill>
          <a:blip r:embed="rId1"/>
          <a:stretch/>
        </p:blipFill>
        <p:spPr>
          <a:xfrm>
            <a:off x="0" y="0"/>
            <a:ext cx="684360" cy="6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57200" y="2599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УЧИТЕЛЬ – КЛЮЧЕВАЯ ФИГУРА НОВОЙ ШКОЛ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КАЧЕСТВО ОБРАЗОВАНИ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НЕ МОЖЕТ БЫТЬ ВЫШЕ КАЧЕСТВА РАБОТАЮЩИХ В НЕЙ УЧИТЕЛ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C:\Documents and Settings\User\Рабочий стол\9 А классу, шк. 133 от О.В\Эмблема школы.jpg"/>
          <p:cNvPicPr/>
          <p:nvPr/>
        </p:nvPicPr>
        <p:blipFill>
          <a:blip r:embed="rId1"/>
          <a:stretch/>
        </p:blipFill>
        <p:spPr>
          <a:xfrm>
            <a:off x="0" y="0"/>
            <a:ext cx="1332000" cy="112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16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КАК ИЗМЕНИТСЯ УРОК В СЛОВИЯХ ТРЕБОВАНИЙ ФГОС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C:\Documents and Settings\User\Рабочий стол\9 А классу, шк. 133 от О.В\Эмблема школы.jpg"/>
          <p:cNvPicPr/>
          <p:nvPr/>
        </p:nvPicPr>
        <p:blipFill>
          <a:blip r:embed="rId1"/>
          <a:stretch/>
        </p:blipFill>
        <p:spPr>
          <a:xfrm>
            <a:off x="0" y="0"/>
            <a:ext cx="611280" cy="4046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457200" y="2924280"/>
            <a:ext cx="8229600" cy="32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262673"/>
                </a:solidFill>
                <a:latin typeface="Times New Roman"/>
                <a:ea typeface="Segoe UI Black"/>
              </a:rPr>
              <a:t>КАК СПРОЕКТИРОВАТЬ УРОК И ЕГО ТЕХНОЛОГИЧЕСКУЮ КАРТУ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ru-RU" sz="3600" spc="-1" strike="noStrike">
                <a:solidFill>
                  <a:srgbClr val="262673"/>
                </a:solidFill>
                <a:latin typeface="Arial"/>
              </a:rPr>
              <a:t>НОРМАТИВНО-ПРАВОВАЯ </a:t>
            </a:r>
            <a:br>
              <a:rPr sz="3600"/>
            </a:br>
            <a:r>
              <a:rPr b="1" i="1" lang="ru-RU" sz="3600" spc="-1" strike="noStrike">
                <a:solidFill>
                  <a:srgbClr val="262673"/>
                </a:solidFill>
                <a:latin typeface="Arial"/>
              </a:rPr>
              <a:t>ОСНОВА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08000" y="1628280"/>
            <a:ext cx="8928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26267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ФЕДЕРАЛЬНЫЙ ЗАКОН №273-ФЗ ОТ 29.12.2012 «ОБ ОБРАЗОВАНИИ В РФ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26267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НАЦИОНАЛЬНАЯ ОБРАЗОВАТЕЛЬНАЯ ИНИЦИАТИВА «НАША НОВАЯ ШКОЛА» ПР.-271 ОТ 04.02.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26267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ПРИКАЗЫ МОИН РФ ОБ УТВЕРЖДЕНИИ И ВВЕДЕНИИ В ДЕСТВИЕ ФЕДЕРАЛЬНОГО ГОСУДАРСТВЕННОГО ОБРАЗОВАТЕЛЬНОГО СТАНДАРТА НАЧАЛЬНОГО, ОСНОВНОГО И СРЕДНЕГО ОБЩЕГО ОБРАЗОВАНИЯ (ОТ 06.10.2009, 18.12.2012, 29.12.2014, 18.05.2015 И Т.Д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26267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ПОСТАНОВЛЕНИЕ  ГЛАВНОГО ГОСУДАРСТВЕННОГО САНИТАРНОГО ВРАЧА РФ ОТ 24.11.2015 №81 «О ВНЕСЕНИИ ИЗМЕНЕНИЙ №3 В САНПИН 2.4.2.2821-10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26267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ПРОФЕССИОНАЛЬНЫЙ СТАНДАРТ  ПЕДАГОГА, УТВЕРЖДЕННЫЙ ПРИКАЗОМ МИНИСТЕРСТВА ТРУДА РОССИИ ОТ 18.10.2013 №544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C:\Documents and Settings\User\Рабочий стол\9 А классу, шк. 133 от О.В\Эмблема школы.jpg"/>
          <p:cNvPicPr/>
          <p:nvPr/>
        </p:nvPicPr>
        <p:blipFill>
          <a:blip r:embed="rId1"/>
          <a:stretch/>
        </p:blipFill>
        <p:spPr>
          <a:xfrm>
            <a:off x="0" y="-171360"/>
            <a:ext cx="1403280" cy="12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ТЕХНОЛОГИЧЕСКАЯ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КАРТА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УРО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C:\Documents and Settings\User\Рабочий стол\9 А классу, шк. 133 от О.В\Эмблема школы.jpg"/>
          <p:cNvPicPr/>
          <p:nvPr/>
        </p:nvPicPr>
        <p:blipFill>
          <a:blip r:embed="rId1"/>
          <a:stretch/>
        </p:blipFill>
        <p:spPr>
          <a:xfrm>
            <a:off x="0" y="0"/>
            <a:ext cx="971640" cy="8366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  ГРАФИЧЕСКОГО ПРОЕКТИРОВАНИЯ  УРОКА, ТАБЛИЦА,  ПОЗВОЛЯЮЩАЯ СТРУКТУРИРОВАТЬ  УРОК  ПО ВЫБРАННЫМ  УЧИТЕЛЕМ ПАРАМЕТРА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834920" y="274320"/>
            <a:ext cx="561636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ПАРАМЕТР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125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ПЫ УРО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И УРО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АНИЕ УЧЕБНОГО МАТЕРИ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Ы И ПРИЕМЫ ОРГАНИЗАЦИИ УЧЕБНОЙ ДЕЯТЛЬНОСТИ ОБУЧАЮЩИХ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УЧИТЕ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ОБУЧАЮЩИХ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C:\Documents and Settings\User\Рабочий стол\9 А классу, шк. 133 от О.В\Эмблема школы.jpg"/>
          <p:cNvPicPr/>
          <p:nvPr/>
        </p:nvPicPr>
        <p:blipFill>
          <a:blip r:embed="rId1"/>
          <a:stretch/>
        </p:blipFill>
        <p:spPr>
          <a:xfrm>
            <a:off x="0" y="0"/>
            <a:ext cx="1692360" cy="12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63640" y="274320"/>
            <a:ext cx="561672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ОСОБЕННОСТЬ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АКТИВ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ГОРИТМИЧ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ОЛОГИЧ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ИРОВАН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БЩЕННОСТЬ ИНФОРМ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C:\Documents and Settings\User\Рабочий стол\9 А классу, шк. 133 от О.В\Эмблема школы.jpg"/>
          <p:cNvPicPr/>
          <p:nvPr/>
        </p:nvPicPr>
        <p:blipFill>
          <a:blip r:embed="rId1"/>
          <a:stretch/>
        </p:blipFill>
        <p:spPr>
          <a:xfrm>
            <a:off x="0" y="0"/>
            <a:ext cx="147636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47280" y="-360"/>
            <a:ext cx="713916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УЗЛОВЫЕ БЛО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ЕПОЛАГАНИЕ (ЧТО НЕОБХОДИМО СДЕЛАТЬ, ВОПЛОТИТЬ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СТРУМЕНТАЛЬНЫЙ  (КАКИМИ СРЕДСТВАМИ ЭТОНАДО СДЕЛАТЬ, ВОПЛОТИТЬ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ОННО-ДЕЯТЕЛЬНОСТНЫЙ (КАКИМИ ДЕЙСТИЯМИ И ОПЕРАЦИЯМИ ЭТО НЕОБХОДИМО СДЕЛАТЬ, ВОПЛОТИТЬ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C:\Documents and Settings\User\Рабочий стол\9 А классу, шк. 133 от О.В\Эмблема школы.jpg"/>
          <p:cNvPicPr/>
          <p:nvPr/>
        </p:nvPicPr>
        <p:blipFill>
          <a:blip r:embed="rId1"/>
          <a:stretch/>
        </p:blipFill>
        <p:spPr>
          <a:xfrm>
            <a:off x="0" y="0"/>
            <a:ext cx="109224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3T01:23:47Z</dcterms:created>
  <dc:creator>Тася</dc:creator>
  <dc:description/>
  <dc:language>en-US</dc:language>
  <cp:lastModifiedBy>татьяна</cp:lastModifiedBy>
  <dcterms:modified xsi:type="dcterms:W3CDTF">2017-01-11T00:38:50Z</dcterms:modified>
  <cp:revision>142</cp:revision>
  <dc:subject/>
  <dc:title>Развитие социального партнерства школы как фактор  совершенствования управления качеством образования</dc:title>
</cp:coreProperties>
</file>